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677-B0B8-44DC-97B0-AA3A1E30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B9C-98BE-49D6-8851-6D14ED2D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5CCF-EF2A-4A00-9D68-3C8D422F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C1B-5552-44A5-9881-1B0E8073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62F-EC02-4A2D-ADB1-6A635D2A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32D-D82F-44F4-9DED-6B94F83C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54ED-2F99-4E9D-933C-699ADC8A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D27-99B4-4938-979C-79F389CE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53A-002D-4DFF-8DD0-6C3B275C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D00-007B-43F7-A7E2-AA81D043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4D8-8E65-4992-8CDB-D1535824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8C2-2749-40D3-A133-10865BC8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8835-CC5D-4D26-A2B3-238F6169B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590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езикоуретерални рефлукс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флуксна нефропат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41800"/>
            <a:ext cx="64008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5760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vur-3"/>
          <p:cNvPicPr/>
          <p:nvPr/>
        </p:nvPicPr>
        <p:blipFill>
          <a:blip r:embed="rId1"/>
          <a:stretch/>
        </p:blipFill>
        <p:spPr>
          <a:xfrm>
            <a:off x="6015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vur-4"/>
          <p:cNvPicPr/>
          <p:nvPr/>
        </p:nvPicPr>
        <p:blipFill>
          <a:blip r:embed="rId2"/>
          <a:stretch/>
        </p:blipFill>
        <p:spPr>
          <a:xfrm>
            <a:off x="32907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vur-5"/>
          <p:cNvPicPr/>
          <p:nvPr/>
        </p:nvPicPr>
        <p:blipFill>
          <a:blip r:embed="rId3"/>
          <a:stretch/>
        </p:blipFill>
        <p:spPr>
          <a:xfrm>
            <a:off x="6012000" y="620640"/>
            <a:ext cx="2455560" cy="3065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68360" y="4437000"/>
            <a:ext cx="8136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II степeн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IV степeн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       V степe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лага дилатација        Умерена дилатација уретера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Д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тaциј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ретера и карлице              зарављене чаш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је асимптоматска аномалија, а клинички се открива у око 85% случајева преко уринарне инфекције, ређе у одмаклом стадијуму преко компликација као што су хипертензија и хронична бубрежна инсуфицијенциј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, поготову ако је I, II и III степена има тенденцију да се изгуби и ово се дешава у више од 50% случајева, нарочито у млађем узраст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клоност ка ожиљавању је, међутим, највећа у првим годинама живота, тј. код одојче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казано је да се  ожиљавање дешава само у првих 5-7 год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лесници са благим степеном ожиљавања, поготову ако немају протеинурију (или не већу од 500 mg/24h), са  нормалним с. креатинином, обично у каснијем животу немају компликациј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вестан број болесника са вишим степеном ожиљавања, односно редукције бубрежног паренхима, има болест прогредијентног тока за коју је прихваћен назив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рефлуксна нефропатиј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флуксна нефропат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је хронична прогредијентна болест коју карактерише ожиљавање бубрега, а настаје као последица ВУР-а и удружених фа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жиљавање бубрега и редукција бубрежног паренхима се дијагностикује помоћу IVP или/и DMSA сцинтиграф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е на IVP-у које су карактеристичне 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Н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још 1960. год. описао J. Hodsо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не се састоје од: деформација чашица, различитог степена ожиљавања паренхима (обично изнад деформисаних чашица) и смањења величине бубр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нас је прихваћено да се степен ожиљавања бубрега дефинише по класификацији J. Smel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Механизам настанка ожиљав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односно редукције бубрежног паренхима у присуству ВУР-а данас се тумачи на неколико нач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ање интрареналног рефлук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ринарна инфекциј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ање конгениталне дисплазије бубрег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вентуално повишен ретроградни притисак- “чекић” (ово последње важи само за болеснике са опструкцијом и неурогеном дисфункцијом мокраћне бешик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АН ТОК БОЛЕСТИ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3 фазе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чиње  у  одојчета и малог детета. Долази до  иреверзибилног  оштећења паренхим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же бити асимптоматска. Хипертензија и протеинурија нису запаже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. Најчешће  се болесници јављају са израженом хипертензијом  или  бубрежном исуфицијенциј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I и II степена, и највећи број III   степена треба лечити  конзервативн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  В  степена- хирушки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д ВУР-а  III  и IV  до сада  завршене студије не показују   значајне разлике у начину лечења. У  последње време  користи се «стинг»  процедура, тј убризгавање тефлона у везикоуретерелно ушће, чиме се спречава рефликсирање ур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лаговремено лечење уро-инфекција у одојчади и мале деце, при првој инфекциј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 повишеној температури која нема видљиви узрок (пре давања антибиотика) прегледати УРИН и УРИНОКУЛТУР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ле лечења доказане инфекције  урадити потребна испитивањ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д  деце из породица  са ризиком саветује се Ехо бубре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је термин који означава ретроградно враћање урина из мокраћне бешике у урет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ВУР-а у дечијој популацији није сасвим прецизно установљ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појаве уринарних инфекција у деце до 11 година  је 3% за девојчице, а 1% за дечаке.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 30-50% ових болесника  се налази ВУ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а ВУР-а у општој популацији деце се процењује на 0,4 до 1,8%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азирано на епидемиолошким студијама, при истраживању ИУТ у око 2,2% девојчица и 0,6% дечака нађе се ВУ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а ВУР-а у деце са ИУТ износи око 31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148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може бити примаран и секунда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римарни ВУ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астаје најчешће због урођене аномалије везикоуретералног споја, која га чини функционално инсуфицијент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има тенденцију да се са узрастом детета губи, јер за то време интравезикални део уретера повећава своју дуж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екундарни ВУ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е јавља често удружен са ектопичним уретерима или дупликацијама уретера. Такође се јавља када постоји анатомска или функционална опструкција уринарног тока дивертикулом, уретероцелом и валвулом задње уре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ебно треба указати на појаву ВУР-а у болесника са неурогеном дисфункцијом мокраћне беш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зависности од тога у којој мери приликом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UCG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нтраст испуњава уретер и пелвикаликсни систем, као и од величине дилатације овог система ВУР се конвенционално градира у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степ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последње време је највише прихваћена класификација Комитета интернационалне студије ВУР-а на пет степ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ЕЗИКОУРЕТЕРАЛНИ РЕЛУ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vur-nl"/>
          <p:cNvPicPr/>
          <p:nvPr/>
        </p:nvPicPr>
        <p:blipFill>
          <a:blip r:embed="rId1"/>
          <a:stretch/>
        </p:blipFill>
        <p:spPr>
          <a:xfrm>
            <a:off x="611280" y="141300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vur-1"/>
          <p:cNvPicPr/>
          <p:nvPr/>
        </p:nvPicPr>
        <p:blipFill>
          <a:blip r:embed="rId2"/>
          <a:stretch/>
        </p:blipFill>
        <p:spPr>
          <a:xfrm>
            <a:off x="3348000" y="1413000"/>
            <a:ext cx="2363760" cy="2950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vur-2"/>
          <p:cNvPicPr/>
          <p:nvPr/>
        </p:nvPicPr>
        <p:blipFill>
          <a:blip r:embed="rId3"/>
          <a:stretch/>
        </p:blipFill>
        <p:spPr>
          <a:xfrm>
            <a:off x="6184800" y="1413000"/>
            <a:ext cx="2422800" cy="3024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24000" y="4941720"/>
            <a:ext cx="828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Нормалан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бубрег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 степeн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I степe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уретер и мокраћна беш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00:17:13Z</dcterms:created>
  <dc:creator>Katja</dc:creator>
  <dc:description/>
  <dc:language>en-US</dc:language>
  <cp:lastModifiedBy>User</cp:lastModifiedBy>
  <dcterms:modified xsi:type="dcterms:W3CDTF">2014-08-12T13:41:19Z</dcterms:modified>
  <cp:revision>43</cp:revision>
  <dc:subject/>
  <dc:title>No Slide Title</dc:title>
</cp:coreProperties>
</file>