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123-8091-4B69-ADAE-81079BB9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B8C-591F-4068-ADB7-9822D713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74C-FDCA-414D-A433-20F73609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0FA-0787-492E-8F88-D2B4BD3B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6B7E-6465-4F85-992F-E33F15F6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C489-E53F-48A5-955A-A7BE3B1C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B216-F082-49EF-BD47-F1CF441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C8D1-AC5B-41C4-A1E1-8EF8EA2F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6BA1-B87B-4CF8-8EE2-1A449298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487E-50B3-4226-8A3C-FFDD851B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660E-C98B-41DB-A192-1B9EB4FA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13B-556D-45E7-8E54-AF6763AE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13A1-89AD-4858-A76A-CFDA34E3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1E36-EC6D-4B1C-8358-AB453DA5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D08A-E306-47FD-8BC2-2BCFCD84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F8E2-619C-44C5-A647-98F0A797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5697-67F3-4501-8246-42746E72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9976-8E58-4832-8D8C-9DF9BAB8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120-7F4F-4299-9503-D6CEAC72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DBF-C110-45A3-B9B3-4FEA73A9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DEA-E641-46D5-9412-F42BD54D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0E4-6F7A-4E3D-8CBD-04DDFEC6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525-CDDF-4482-8AD8-903D46E0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E6E-74A6-4A0F-B3A2-E4A7F97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A807-0EEC-4746-9EA8-741A0DBB35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6F3E-022E-4EB7-899E-54E72FE051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ФЕКЦИЈЕ УРИНАРНОГ ТРАКТА У ДЕ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27280" y="5181120"/>
            <a:ext cx="564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УТ се налази код око 5 % деце узраста до 2 год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2,7-4,1%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са фебрилношћу непознате етиолог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мперат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39°C),а 2-3 пута чешће код женске де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око 17% девојчица беле рас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пацијентима м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им од 2 годин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8-10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ма бактеријем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изик од појаве симптоматске ИУТ до 11. године живота постоји код 3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војчица са “пиком” у 4. год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код 1,1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чака са највећом инциденцом у 1. години жив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мулативни ризик од појаве ИУТ , према подацима из Шведке, износи 2,2% код дечака и 2,1% код девојчица узраста до 2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ични резултати добијени су у Енглеској где је симптоматска ИУТ евидентирана код 2,8% дечака и 8,3% девојчица узраста до 7 год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код 3,6% и 11,3% испитаника до 16 година стар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ко 60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деце са фебрилном ИУТ има АПН дефинисан присуством абнормалности у реналном кортексу на D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ETIOLOGIJ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већини случајева ове инфекције изазива сопствена цревна флора пацијент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чешћи узрочник из ове групе је E.col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a se izoluje u случајu прве нeкомplиkovane ИУТ koд 75% novoroђenčadi i 80 - 90% deцe prepuбerтetskoг uзrast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осталим грам-негативним цревним бактеријам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bsi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се среће у новорођеначком узрасту (11%), а Proteus код млађих дечака (30%). Proteus и псеудомонас су чешћи у нозокомијалним инфекцијама и код пацијената са течким аномалијама доњег дела уринарног тракта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ђу грам-позитивним бактеријама најчешћи су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treptococcus grupe D (ентерокок) i Staphylococcu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агулаза негативне стафилококе (S. epidermidis и S. saprophiticus) су једно време биле појам за контаминацију са коже. Са широм употребом супрапубичне аспирације урина постало је јасно да ови организми могу бити патогени за уринарни трaк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.epidermidis и S.saprophiticus узрок су ИУТ код 30% девојчица у пубертет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во се, као и пораст инциденце ИУТ у касном пубертету повезује са сексуалном активношћ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ЦИЈ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 појмом инфекције уринарног тракта (ИУТ) подразумевају се сва стања која карактерише присуств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игнифакнтног броја бактерија у урин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то без обзира на локализацију инфекције у уринарном тракту ( од асимптоматске бактериурије до акутног пијелонефритис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ј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јим сопствена цревна флора пацијента продире у уринарни тракт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је асцедентан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ј. кроз уретру из претходно колонизоване периуретралне регије код дев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а и субпрепуцијалног џепа код 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од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е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и инциденца ИУТ 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циркумцизијом. Ризик од ИУТ за нециркумцизирану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у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 у првој годин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вота је 4,1% 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на 0.2% применом неонаталне циркумцизије (Gonzales, 1996.). 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тим питање рутинске неонаталне циркумцизије остаје контроверзно (Poland, 1990; Schoen, 1990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је доспевају до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пособности адхеренције за уроепител, као и по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анког слоја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и на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слуз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. Максималан раст бактерије п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на температури урина 37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, када је pH 6-7 и осмолалност 300-1200 mOsm/k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ласку бактерија се супротстављају турбулентни ток урина, природни испир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акт мокрења и 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бактеријски одбрамбени механизми урина,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бубре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Хематоген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је знатн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уласка бактерија у уринарни тракт. ИУТ у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м периоду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стати овим пут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Грам-негативна септикемија са E.coli развија се у време колонизације црева овим микроорганизмом због незрелости цревног зида и неадекватних имуно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их одбрамбених механизама. Имуноглобулини м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ог млека имају 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титну улогу па ј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бактеријемиј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 код деце која нису на природној исхр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ТОГЕНЕЗ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мањег броја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структуралних абнормалности-CAC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% ВУР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5%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већине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интерреакције из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фактора вируленције бактерија и одбрамбених механизама домаћи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↔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фламаторн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атогенеза ИУТ није потпуно раз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на, али је на основу бројних кл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 микроб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ст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за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 д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о појаве болести долази када се поремети равно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 изм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фактора вируленције бактерија и одбрамбених механизама дом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енерално, уропатогене микробне културе обухватају клонове E. coli који се јављају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у уринарном тракту пацијената са ИУТ. Поред способности доброг раста и брзог ум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вања у урину, ове бактерије поседују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ске факторе који предиспонирају ИУТ (Roberts, 1996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Сви фактори вируленције су продукт бактеријског ген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тако да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стим мутацијама гена ове бактерије могу мењати фенотипску експресију протеинских и непротеинских антиген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ј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вирулентнији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ј бактерија који се сматра сигнификантним зависи од методе прикупљања урина и он према Кассу износ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0</a:t>
            </a:r>
            <a:r>
              <a:rPr b="0" lang="sr-Latn-CS" sz="28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или више бактерија у 1ml урина, који је добијен из средњег млаза у току мик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ли више бактерија у 1ml урина узетог катетеризацијом или било који број добијен културом урина узетог супрапубичном пункцијом мокраћне беши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О антиген - антиге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- састављен из липидне и полисахаридне компоненте. Липид А се осл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 при лизи бактерије и дел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као ендотоксин смањује уретералну перисталтику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 је активатор инфламаторне реакције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а и активатор комплемента клас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ним путем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Полисахаридна компонента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је индивидуални О-серотип. Серотипови који су н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одговорни за ИУТ су: 0, 1, 2, 4, 6, 7, 18, 25, 50 и 7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К антиген - капсуларни антиген - је полисахарид који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нхибира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 фагоцитоз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л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вљавање бактерија у уринарном тракту, као и њихово продирање у бубрег,  тј настанак акутног пијелонефритиса. К антигени т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ометају бактерицидно дејство серума посредовано комплементом,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т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мог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ерзистирање бактерија у ткив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 антиген - флагеларни антиген - поседују неки сојеви E.coli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ни покрет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Фимбрије или пили су продук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који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мог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ва адхеренцију бактерија на повр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у слузок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 -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то је најз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јниј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илац у настанку бактериур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 Посредством адхезина-протеинских  структура на врху пила, E.coli се специф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везује за гликолипидне или гликопротеинске рецепторе уроепи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лавна улог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патогенези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љав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аренхима бубрега изазивањем респираторног праска приписује се организмима који имају тип I фимбрија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E.coli, носилац маноза-сензитивних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фимбриј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ијања за Tamm Horsfall-ов протеин - слузави слој на уротелу кој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ити уринарни тракт од микроорганиз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собе са крвном групом P имају на епителни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лијама мок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уретера рецeпторе за P фимбрије (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L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о омогу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в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адхеренцију бактериј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станак акутног пијелонефритиса у нормaлном уринaрном трaк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во везивање доводи, у даљем току ИУТ, до интеракције са фагоцитима - изазив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респираторни прасак тј. дегранулацију полиморфнонуклеарних леукоцита (pmn) са осл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њем ензима и то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х радикала кисеоника у околно ткиво. Ова интеракција се одигравa посредством циток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l-like рецептори“ (TLR) препознају PAMP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мокини (IL-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инфламаторни цитоки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L-1, IL-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билизација имуних ћелија и деструкција патогених организа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основи м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икроорганизама да се испоље као патогени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бити модификована д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овим одбрамбеним механизмима. Ове механизме грубо делимо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анатом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функционалне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имун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анатомски нормалном уринарном тракту, уз регуларно п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њење б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ке и слободну др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урина, при сваком акту мокрења долази до ефикасне елиминације урина и бактерија. На целуларном нивоу бактерије нападају Пмн-и, об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их антитела и лизира их комплемент. Свако стање које на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ва ове нормалне одбрамбене механизм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и особу 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клоном инфекција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Висок степ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уретер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ог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реф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с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ВУР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може повећати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 и он се среће код о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3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нгениталне аномал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с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по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бст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повећавају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В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43120" y="1447920"/>
          <a:ext cx="7386480" cy="4653000"/>
        </p:xfrm>
        <a:graphic>
          <a:graphicData uri="http://schemas.openxmlformats.org/drawingml/2006/table">
            <a:tbl>
              <a:tblPr/>
              <a:tblGrid>
                <a:gridCol w="2462040"/>
                <a:gridCol w="2608200"/>
                <a:gridCol w="2316240"/>
              </a:tblGrid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колекције ури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ификантан број бакте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ватноћа инфекције (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прапубична аспир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ло који бро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териз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5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и мл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деце мускулатура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се релаксира као одговор на пуњење док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а не буде пуна: 20 - 50ml код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и до 500 и 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мл код одраслих. При акту мокрења спонтане контракције детрусор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су релаксацијом спо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јег сфинкт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особе остаје мање од 20ml резидуалног урина после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складу са тим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фекција 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да настане само ако довољно бактеријa остaне у резидуалном урин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исинергија сфинктер-детрусор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оводи до високог питиск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ња и трајног пост-притиска 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изазвати буб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о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њ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к и у одсуству инфекциј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Roberts, 1996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Сметње у функционисањ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могу бити узроковане озбиљним обољењима, као у с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у неуроге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, или мањим функционалним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има од којих су неки повезани са психосоцијалним стресом или 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 навикама (ретко мокрењ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coli изолована из урина показује п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ну тенденцију да ин витро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дхерира за периуретрал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вагиналне, као 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л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букалне слузо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их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на које су склоне рекурентној бактериурији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Ово указује на мог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утицај генетских фактора, пр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му фактор који доприноси овој склоност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бити присуство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крвне групе (Shaefferet al, 1981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рлеукин (IL)-8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XCR1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CE инсе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де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CE I/D) г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о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umor necrosis factor-[a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]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изам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г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енетски фактори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ји представљају предиспозицију за ренално ожиљавање. Они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идентификовани као потенцијални медијатори за фиброзу ткива и последично ствара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њ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е ожиљка у току АПН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.[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жина инфламације није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само нивоим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ћ и њиховом функционалном способношћу (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варијацијама у примарној структури ге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Taq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+3953 C/T полиморфизам) у гену за IL1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-174 G/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гену за IL 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Деца са рекурентним ИУТ 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имају смањену уринарну секрецију IgA у п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у са здравом дец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је показано да 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и деца са понављаним ИУТ немају антигене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г типа крвне групе у из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винама као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су слуз и салива (тзв. нон-секретори). Претпоставља се да њихово присуство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да у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 пријањање уропатоге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рганизми који узрокују узлазну ИУТ настањују црева, тако да особе са уринарном инфекцијом морају имати рецепторе у цреву за ове бактерије (Flieder et al, 1986; Uehling, 1994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ције уринарног тракта (ИУТ), после респираторних инфекција, најчешће су бактеријске инфекције у детињств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LINIČKA SLIK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и симптоми уринарне инфекције зависе од узраста, пола, локализације ИУТ, присуства анатомских абнормалности и претходних инфекциј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Код новорођенчади, одојчади и мале деце типични локализујући симптоми су обично одсут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чешће клиничке манифестације ИУТ у новорођеначком узрасту подразумевају: ненапредовање (“failure to thrive”), губитак у тежини, одбијање оброка, дистензију трбуха, летаргију, узнемиреност, цијанозу, жутицу, пролив и повишену телесну температу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узрасту одојчета и малог детета до 2.године и даље је тешко локализовати ИУТ јер су симптоми некарактеристич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 уринарних симптома могу се наћи промењен изглед, боја и/или мирис урина, плач при микцији и учестало мокрењ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зв. локализујући симптоми могу бити последица баланитиса (вулвовагинитиса) и локалне перинеалне иритаци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о треба искључити физикалним прегледом детет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дизуричних тегоба код девојчица у преадолесцентном период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а ири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а концентарција урина (дехидрац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локалне иритациј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пуни и детерџ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икалије у храни, пићу и лек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улвовагин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еркалци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 деца постају старија ИУТ се чешће испољава симптомима који се односе на уринарни тракт док су системске манифестације лакше и ређе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изурија, учестало мокрење, енуреза и супрапубични бол указују на акутни циститис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ак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 се јавља акутна ретенција или инконтиненција ур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утни пијелонефритис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АПН) се манифестује високом температуром понекад праћеном грозницом, лумбалним болом и осетљивошћу лумбалних лож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бдоминалним болом и повраћањ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З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ишена температура &gt; 38.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уз системске поремећаје и лумбалну осетљивост као објективни зн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 &gt; 35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P &gt; 25 mg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укоцитурија и леукоцитни цилинд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а осмоларност, тј. специфична тежин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odal U., 1987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калцитонин (PCT) прецизан маркер у дијагнози акутног пијелонефритиса (Smolkin i sar., 200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нзитивност 94,1% и специфичност  89,7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те већ после 2-3х од инфекције, максималан ниво достиже после 12-24h, а по одстрањењу инфективног стимулуса рапидно пада на нормал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циденција и преваленција ИУТ у детињству нису тачно познате јер она често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остаје непрепозната због неспецифичности симп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ли се погрешно дијагностикује као обољење других систе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нзитивност  100%, али екстремно ниска специфичност од само 18,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ив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T боље корелира са појавом реналних ожиљака нег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ртикална (статичка) сцинтиграфија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DM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итивност 90%, специфичност 95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Majd i sar., 19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АЉЕ ЗЛАТНИ СТАНДАРД!!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8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у серуму и урину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елирају 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бубрежним оштећењем код одојчади и де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 високом сензитив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81-88%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прихватљ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пецифич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78-83%)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ви марке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мају исти значај у новорођеначком узрас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а ма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зитив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50%)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у детекцији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ф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ал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бнор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 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мб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нивоом већим 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70 mg/L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 указати на ренално ожиљавa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wer Doppler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у били у корел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од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ис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ијагноз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уроли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а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ро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урете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уретероцел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дистензије беш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тандардне биохемијске анали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калцитонин (PC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до 0,5ng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1β (IL1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6 (IL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адиолошка испит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лтразвук уротракта (унутар 3-5 дан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UG унутар месец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тикална DMSA сцинтиграфија унутар 10 дана од инфекције и после 6 месец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енетске анал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лиморфизми у генима 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1β (TaqI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6 (-174G/C)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E (I/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АПИЈА И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важњ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циљ л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њ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це са ИУТ ј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да се спреч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прогресивно ош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ећње бубрег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је може довести до хипертензије, компликација у трудноћ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рминалне ХБ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ронични пијелонефритис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ефлуксна нефропатија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стаје један од главних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узрока терминалне бубрежне инсуфицијенције у детињств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Учесталост ИУТ највећа је у првој години живо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спериментално је доказано да је настанак и обим ожиљавања бубрега сразмеран времену трајања инфекције до пошетка лечењ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очетак терапије после 3 дана од настанка инфекције не спречава стварање ожиљних промена паренх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а испитивања су показала да ј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изи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д настајања ожиљак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већи у првој години живот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 да нови ожиљци ређе настају после седме годи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Приликом избора лек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и 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а његове апликације и код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е и места (хоспитално или амбулантно)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треб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ети у обзир узраст детета, 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у клини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е слике и присуство структурних или функционалних абнормалности уринарног тра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оспитализација је неоп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орођ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ади и одојч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≤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ебрил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о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≥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годи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рије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 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линич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м сли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 и/или клинички компликованом И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деце са аномалијама уринарног тра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о фебрилно(рецт.Т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 i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болесно (интоксицира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зистентно повра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мерено до тешк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лоша сарадња у леч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ебрилно(рецт.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ли не изгледа болес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може да узима течност и леков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per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 хидрирано или благ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добра сарад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рапију је најбоље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зап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ти одмах 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физикалног прегледа болесник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имања узорка урина за бактериол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и преглед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Код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 болесне деце у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 н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ка се да дете мокри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се узорак урина узима супрапу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м аспирацијом под контролом ултразву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деце која нису фебрилна, а имају симтоме и знаке инфекције доњег дела уротракта, терапија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годити до добијања резултата 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г прегледа урина, не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 48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 мере у терапији обухватају с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по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телесне температуре, оралну или парентералну рехидрацију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ка (крв, плазма, слани физ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раствори)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фебрилних конвулзија и других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ерапији АПН-а разликују се две фа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. иницијална, до идентификације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и антибиог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друга фаза, по добијању из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ја о сензитивности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на антимикробне лек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новорођеначком периоду ИУТ су од 2,3 - 8 пута чешће код мушке дец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узрасту од 2 до 6 месеци такође постоји предоминација мушког пола, док су у сваком каснијем периоду ИУТ чешће код женске де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се проводи парентералном применом лекова у трајању 3-5 дана, а затим, у зависности од стања болесника, наставља пероралном применом изабраног лека. Н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терапија примењује 7-1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еки аутори се з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за истовремену примену 2 лека, бар у узрасту до 18 месеци. Иницијална “битерапија” се об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састоји од аминогликозида (по правил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Гентамици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и једног од сле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х лекова: Ампицилин-а, Амоксицилин-а (са или без клавулонске киселине), цефалоспорина и триметоприм-сулфометоксазола (TMP/SMX) (Bensman, 1991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 моделу експериментално изазваног АПН код пацова, показано је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атохистолошки) да примена кетопофена или метилпреднизолона уз антбиотску терапију (цефтриаxон) смањује појаву ожиљака (Турс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ође је, клиничком студијом код деце са АПН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врђено да се увођењем ви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вит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 у терапију превенира бубрежно ожиљавање (Ир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 скоро одобрил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у ципрофлоксацина за лечење комликоване ИТУ и пијелонефритис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од деце, мада он није лек првог избора у педијатрији због утицаја на коштано-зглобни систем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рентерална терапија ИТУ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6800" y="1219320"/>
          <a:ext cx="7386480" cy="51498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лин: 100-200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(макс.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: 5-7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једној дози или 7,5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подељено у 3 до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еп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14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6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отаx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28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-15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: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20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6-8h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триак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5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-2g za 24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профлокас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го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:10-2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/na 12h/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,5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e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200-400m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a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цијална монотерапија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спроводити сваким од напред наведених леко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УТ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а се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по принципима за терапију сепс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За оралну терапију су погодни цефалоспорини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оксицилин/клавулонска киселина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котримоксазол,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нитрофурантоин, налидиксинска и пипемидинска кисе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и рутински преглед урина 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е 48-72 h од 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ка терапије, затим 2-3 дана по њеном прекиду и поново 2-3 недељe касниј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у треба избегавати код деце без симптома, јер је ерадикација узрочника асимптоматске батериурије који су ниске вириуленције, често праћена појавом симптомске инфекције или АПН са много вирулентнијим сојевима бактер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 овом најранијем животном добу ИУТ се најчешће клинички манифестују у виду акутног пијелонефритиса (АПН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осле из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АПН-а треба д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антибактеријск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рофилаксу све док се испитивањима не ис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ВУР или опструктивна уропат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Jones &amp; Asscher, 1992.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2 године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5 година после прве компликoван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е индикације за профилак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цидивима АПН                               (до 6 месеци од последње епизод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налним ожиљком после ИУТ која немају В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ВУР-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а са рекурентном ИУТ по типу циститиса (више од 3/год)   4-6 месе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асимптоматском бактериуријом која је удружена са поремећајем актa мокрења (дисфункционално мокрен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офилак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 дозе лекова не треба да п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30% терапијских доза, а дају се у једној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рњој дози. За профилаксу се користе: нитрофурантоин, TMP/SMX, налидиксинска и пипемидинска кисел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ампицилин, амоxицилин и ц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л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ТИЧНЕ ДОЗЕ ЛЕКОВА ИТУ КОД ДЕ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14520" y="1447920"/>
          <a:ext cx="7386480" cy="51210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P-SM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g 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 или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g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x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љно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TM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фуранто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mg/kg/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кс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ле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која имају честе инфекције под профилаксом може да користи “двострука” профилакса са котримоксазолом и нитрофурантои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компликованим аномалијама уротракта којима су потребне интермитентне катетеризације, често имају и асимптоматску бактериурију и симптоматску 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а деца треба да се лече у терцијарним установам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Диференцијална дијагно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ендиц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ктерием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wasack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јева бол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олитиј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окол испитривања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133720" y="1143000"/>
            <a:ext cx="3124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а доказана И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 прегл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t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сумња на калкулоз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52280" y="30481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lt; 2 год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12920" y="2438280"/>
            <a:ext cx="213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ан на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7010280" y="2438280"/>
            <a:ext cx="1905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нормал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0"/>
          <p:cNvCxnSpPr>
            <a:stCxn id="278" idx="2"/>
            <a:endCxn id="281" idx="0"/>
          </p:cNvCxnSpPr>
          <p:nvPr/>
        </p:nvCxnSpPr>
        <p:spPr>
          <a:xfrm flipH="1" rot="16200000">
            <a:off x="5676120" y="152280"/>
            <a:ext cx="305280" cy="42678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AutoShape 11"/>
          <p:cNvCxnSpPr>
            <a:stCxn id="278" idx="2"/>
            <a:endCxn id="280" idx="0"/>
          </p:cNvCxnSpPr>
          <p:nvPr/>
        </p:nvCxnSpPr>
        <p:spPr>
          <a:xfrm rot="5400000">
            <a:off x="3334680" y="2077920"/>
            <a:ext cx="305280" cy="416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Rectangle 17"/>
          <p:cNvSpPr/>
          <p:nvPr/>
        </p:nvSpPr>
        <p:spPr>
          <a:xfrm>
            <a:off x="2286000" y="30481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2 -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4437000" y="3048120"/>
            <a:ext cx="1908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gt;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6894360" y="304812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м)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n CG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руга испитив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20"/>
          <p:cNvCxnSpPr>
            <a:stCxn id="281" idx="2"/>
            <a:endCxn id="286" idx="0"/>
          </p:cNvCxnSpPr>
          <p:nvPr/>
        </p:nvCxnSpPr>
        <p:spPr>
          <a:xfrm flipH="1">
            <a:off x="7961040" y="2742840"/>
            <a:ext cx="21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8" name="Rectangle 21"/>
          <p:cNvSpPr/>
          <p:nvPr/>
        </p:nvSpPr>
        <p:spPr>
          <a:xfrm>
            <a:off x="160200" y="41497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2276640" y="41497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4437000" y="4149720"/>
            <a:ext cx="1890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24"/>
          <p:cNvCxnSpPr>
            <a:stCxn id="280" idx="2"/>
            <a:endCxn id="284" idx="0"/>
          </p:cNvCxnSpPr>
          <p:nvPr/>
        </p:nvCxnSpPr>
        <p:spPr>
          <a:xfrm flipH="1">
            <a:off x="3276360" y="2742840"/>
            <a:ext cx="3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AutoShape 25"/>
          <p:cNvCxnSpPr>
            <a:stCxn id="280" idx="2"/>
            <a:endCxn id="279" idx="0"/>
          </p:cNvCxnSpPr>
          <p:nvPr/>
        </p:nvCxnSpPr>
        <p:spPr>
          <a:xfrm rot="5400000">
            <a:off x="2058120" y="1827360"/>
            <a:ext cx="305640" cy="2136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AutoShape 26"/>
          <p:cNvCxnSpPr>
            <a:stCxn id="280" idx="2"/>
            <a:endCxn id="285" idx="0"/>
          </p:cNvCxnSpPr>
          <p:nvPr/>
        </p:nvCxnSpPr>
        <p:spPr>
          <a:xfrm flipH="1" rot="16200000">
            <a:off x="4181760" y="1839600"/>
            <a:ext cx="305640" cy="211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Rectangle 27"/>
          <p:cNvSpPr/>
          <p:nvPr/>
        </p:nvSpPr>
        <p:spPr>
          <a:xfrm>
            <a:off x="16200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227664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ушки пол,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APN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УР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жиљна нефропат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 породиц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439272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цинтигра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AutoShape 30"/>
          <p:cNvCxnSpPr>
            <a:stCxn id="279" idx="2"/>
            <a:endCxn id="288" idx="0"/>
          </p:cNvCxnSpPr>
          <p:nvPr/>
        </p:nvCxnSpPr>
        <p:spPr>
          <a:xfrm>
            <a:off x="114300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AutoShape 31"/>
          <p:cNvCxnSpPr>
            <a:stCxn id="288" idx="2"/>
            <a:endCxn id="294" idx="0"/>
          </p:cNvCxnSpPr>
          <p:nvPr/>
        </p:nvCxnSpPr>
        <p:spPr>
          <a:xfrm>
            <a:off x="1150920" y="506412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AutoShape 32"/>
          <p:cNvCxnSpPr>
            <a:stCxn id="284" idx="2"/>
            <a:endCxn id="289" idx="0"/>
          </p:cNvCxnSpPr>
          <p:nvPr/>
        </p:nvCxnSpPr>
        <p:spPr>
          <a:xfrm flipH="1">
            <a:off x="3266280" y="3962520"/>
            <a:ext cx="104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AutoShape 33"/>
          <p:cNvCxnSpPr>
            <a:stCxn id="289" idx="2"/>
            <a:endCxn id="295" idx="0"/>
          </p:cNvCxnSpPr>
          <p:nvPr/>
        </p:nvCxnSpPr>
        <p:spPr>
          <a:xfrm>
            <a:off x="326664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AutoShape 34"/>
          <p:cNvCxnSpPr>
            <a:stCxn id="285" idx="2"/>
            <a:endCxn id="290" idx="0"/>
          </p:cNvCxnSpPr>
          <p:nvPr/>
        </p:nvCxnSpPr>
        <p:spPr>
          <a:xfrm flipH="1">
            <a:off x="538272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AutoShape 35"/>
          <p:cNvCxnSpPr>
            <a:stCxn id="290" idx="2"/>
            <a:endCxn id="296" idx="0"/>
          </p:cNvCxnSpPr>
          <p:nvPr/>
        </p:nvCxnSpPr>
        <p:spPr>
          <a:xfrm>
            <a:off x="538272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26:33Z</dcterms:created>
  <dc:creator>Ana i Tamara</dc:creator>
  <dc:description/>
  <dc:language>en-US</dc:language>
  <cp:lastModifiedBy>User</cp:lastModifiedBy>
  <dcterms:modified xsi:type="dcterms:W3CDTF">2014-08-12T13:37:25Z</dcterms:modified>
  <cp:revision>25</cp:revision>
  <dc:subject/>
  <dc:title>Slide 1</dc:title>
</cp:coreProperties>
</file>