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camera.wav" ContentType="audio/x-wav"/>
  <Override PartName="/ppt/media/whoosh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9726-5BB0-42B7-A1CF-4E765300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86D-DADD-483C-BC50-453E9162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C52-0D36-47AE-8A71-FD661895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4BC6-BE4A-4D5A-BAE0-B88F499D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011-6CED-4BC8-BA47-40C714A5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BB6-382E-4635-BA1A-95CAF59E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6D3-AA27-41CE-949C-A466807D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CF4-3911-475F-A4AE-22CF364D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09B8-2155-4A9C-A301-5F1F99B1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721-D2EB-4423-B413-1191D348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503-C9E5-423F-A2F5-71163534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9EC-B7C8-43FF-B462-B9C3F447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42E6-E64A-42EA-9605-9121EE847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5076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кутна бубрежна инсуфицијен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Фаза опоравка – полиури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траје неколико да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апетит се поправља, али болесник “мршави” због појачане диурез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нагли пораст осмотски изазване диурезе јавља се као последица бржег опоравка гломерулске од тубулских функци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побољшање општег стања праћено је нормализацијом биохемијских парамета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Лабораторијске анализ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урина – седимент, уринокултура, биохем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крв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електролити серума (K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Cа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ацидобазно стање (pH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уреа и креатинин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Мерење диурезе (катетер у м. бешици првих 48 са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Диференцијална дијагноза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81080"/>
          <a:ext cx="7924680" cy="4141800"/>
        </p:xfrm>
        <a:graphic>
          <a:graphicData uri="http://schemas.openxmlformats.org/drawingml/2006/table">
            <a:tbl>
              <a:tblPr/>
              <a:tblGrid>
                <a:gridCol w="4000680"/>
                <a:gridCol w="2232000"/>
                <a:gridCol w="169200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ЕКСИ АБ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РЕНАЛ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НАЛ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МОЛАЛНОСТ У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МОЛАЛНОСТ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ЕА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АТИНИН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у УРИНU (m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Na   (uNa/pNa) :  (uCr/pCr) x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I    uNa : (uCr/pC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споставити нормалну перфузију бубрега и диурез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0-30ml/kg 0,9%NaCl за 30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1-5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/kg/min Допам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-5mg/kг Фуросем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диреза не наступи за 2-4h сматра се да је дошло до структурних оштећења бубре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граничити унос течности на 300-350m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 или 15ml/kg плус екстра губитци (повраћање, пролив, знојењ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електролит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K &gt; 7,5mmol/l : 0,2-05ml/kg 10% Ca-глуконат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2-3ml/kg NaH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или инфузија глукозе са инсулин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K &gt; 6,5mmol/l : 0,5g/kg смоле за размену катјон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орално у 100ml 10% глукоз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Ca &lt; 2mmol/kg : 0,5ml/kg Ca-глукона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ацидобаз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pH &lt; 7-7,2 : 2-3ml/kg NaH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безбедити одговарајући калоријски унос давањем хипертоног раствора глукозе (400Kca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) чиме се смањује катаболизам, азотемија и хиперкалиј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Индикације за дијализ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нурија која траје дуже од 24-48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горшање “уремичног ст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 &gt; 7,5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 &lt; 12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H &lt; 7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реа &gt; 4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Акутна бубрежна инсуфицијенц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6920" y="198900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АБИ је клиничко стање које карактерише нагло смањење функције бубрега у тој мери да не може да се одржи водено електролитна хомеостаза и излуче продукти азотног метаболиз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олигоанурија: диуреза мања од 200-250 ml/м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/24h или мања од 10 ml/h код малог детета или мања од 0,5-1ml/kg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повећање концентрације урее и креатинина у серуму за 2 до 2,5 пута у односу на референтне вредности за узраст де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Подела АБИ по етиопатогенез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ре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ренална хипоперфузија и смањење ЈГФ (реверзибилно, без структурног оштећењ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исхемија предуго траје долази до органских промена на тубулима и развоја акутне тубуларне некр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ост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настаје због опструкције уринарних пут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Хемодинамск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хемораг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ешка дехидрација (повраћање и про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шок (септички, постоперат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губитак у “трећи простор” (асцитес, плеурални из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Срчана инсуфицијен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оксичн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ндогени (миоглобин, хемоглобин, крис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гзогени (антибиотици, тешки ме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стисхемична А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акутна тубулска нефроз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ломеруло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АПГН, рапидно прогрес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Васкулит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ХУС, ДИК, тромбозе и емболиј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Интерстицијски 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инфекције, лекови)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утизација Х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ЈГФ пада за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ост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Опструктивне уропат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конгениталне (VP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стече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Калкул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ум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ренал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екстраренал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Клиничка слика пререналне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Зависи од уз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 деце и одојчади преренална АБИ најчешће настаје збод тешке дехидра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сува кожа без тургора и еластицитета, суве слузокоже, упале очне јабучице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коју прате симптоми циркулаторне инсуфицијен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бледило, хладни екстремитети, хипотензија, слаб и убрзан пулс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Класичан клинички ток АБИ пролази кроз три јасно дефинисана клиничка стадијум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Иницијална фа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траје неколио дана до две недељ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болесник често није ни свестан обољења, може да има изражен “централни” осећај жеђ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јачина диурезе и осмоларност урина су смањени (Uosm = 350mosm/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Фазa одржавaњ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траје нeколико сати до једнe nедeљ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знаци прогrесивне азотемије: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бледило, малaксалост, отoци л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ца, aцидотично дисање, губитак aпети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а, повраћaње, штуцање, грче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појавa компликација: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едeм плућа, енцeфалопатија, дигестивна крва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ења, инфекциј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олигоанурија уз пораст осмoларности урина Uosm = 1000mosm/k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днев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и пораст aзo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eм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јe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 eлeк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тр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литн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поремећа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20:49:49Z</dcterms:created>
  <dc:creator>Impuls</dc:creator>
  <dc:description/>
  <dc:language>en-US</dc:language>
  <cp:lastModifiedBy>User</cp:lastModifiedBy>
  <dcterms:modified xsi:type="dcterms:W3CDTF">2014-08-12T13:14:09Z</dcterms:modified>
  <cp:revision>25</cp:revision>
  <dc:subject/>
  <dc:title>Akutna bubrežna insuficijencija</dc:title>
</cp:coreProperties>
</file>