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42B0-C27B-49EE-9F7A-7DDCA4536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5812-FCC0-46D0-91C4-6DA3338F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6680-FB46-48FF-BD2E-E186EAD04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0EC-28D6-41A2-81E6-80A0DE40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B0F-5F77-44A7-BDEE-91066E36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D67-B179-4965-A29D-8170BC29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D7A-97DB-4DC8-A4D1-82F438DA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586-08EF-4F20-A2E8-BAB68645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4BF-A094-40CF-ABCC-6107EB6F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0B1-82CA-4398-B507-1873FCCA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DAF-6BD0-4B88-800D-76AEE2F6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8B3-CC59-4C44-ABD1-04D20769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D39-4DA9-459B-AC21-A73C5109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7B3-B234-439B-B97D-96411EB3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83D-4A2A-4E90-BC17-BDB61729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A333-B325-4F17-B2F3-B9E2740C7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2933280"/>
            <a:ext cx="7854840" cy="180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11280" y="3360600"/>
            <a:ext cx="79930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СПИТИВАЊЕ ФУНКЦИЈЕ БУБР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р Ана Вуј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708360" y="27468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КУНДРАНЕ ГЛОМЕРУЛСКЕ БОЛЕ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и у току хроничних инф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»Good Pasture«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0040" y="1428840"/>
          <a:ext cx="8286840" cy="411624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 снижена гломерулска филтрација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МУНОГЛОБУЛИН А НЕФР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глобулин 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gA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е обухватају групу гломерулских болести које имају заједничку имунско-морфолошку карактеристику-налаз дифузно распоређених депозит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прегледу помоћ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икрос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код деце и код одраслих много су чешће и клинички значајније примарне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gAN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gerov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Берже) болест-  водећи узрок терминалне инсуфицијенције бубрега код одраслих са примарним гломерулопатиј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 у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noch-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lein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oј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рпур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H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912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ичности измеђ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 бројне и велике што оправдава схватање да су то врло сродна станја, с тим шт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 моносимптоматски, 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ски облик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акутна болест са непрогресивним гломерулским лез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хронична болест споре прогресије која може да еволуише у хроничну инсуфицијенцију бубрег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H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настанак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 бити одговорно више механизама тако да код исте особе може, у исто или различито време, да буде активирано више процеса који воде настанку бол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они воде дефектној контроли  продукц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резултира у стварању ненормално гликозилисано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се потом таложи у гломерул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интеракцији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зангијумске ћелије секретују цитокине који изазивају инфламаци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PAF, IL-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IL-b, TNF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MIF) и протеине матри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зија мезангијума у даљој еволуцији, води ка резолуцији или прогресивној склерози што зависи од тога да ли је дошло до секундарног оштећења под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ична презента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макроскопса хематурија, истовремено или 1-2 дана по почетку инфекције горњих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урија траје 1-15 дана и праћена је тупим болом у леђ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 рецидива и дужина интервала између њих су варијабилни, али се по правилу проређују са у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деце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налаз ће бити изолована микроскопска хематурија која се, код 80% оболелих, јавља у року од 4 недеље од почетка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ицијана макрохематурија може да траје неколико дана до неколико недеља и обично је удружена са јаком, али пролазном протеинур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тежа је клиничка презентација под сликом нефритичко-нефротског синд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 И ПРО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а концентрација IgA у серуму налази се и у IgAN и у HSN код 30-70% оболелих и то само у акутној фази и није од значаја за дија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 се код 70% оболелих карактерише рецидивима макроскопске хемету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ички налази који код деце указују на лошу прогнозу су: нефротски синдром, перзистентна протеинурија јача од 1г/24h и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ДИФЕРЕНЦИЈАЛНА ДИЈАГНОЗА ХЕМАТУРИЈЕ КОД 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B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налази код 20-50% болесника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ле 20-30 година 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узрок терминалне инсуфицијенције бубрега код 5% деце у Европи.  Забрињавајуће је да функција бубрега може да се погорша и после комплетног клиничког опоравка који је уследио 2 године од почетк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дашњи терапијски протоколи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мерени су ка модулацији реакције гломерула на депоновање комплек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, 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ем да се смањи оштећ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 ткива и прогресија ка склеро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дије указују да код пацијената са умереном или јаком протеинуријом, али са нормалном или благо сниженом функцијом бубрега, терапија кортикостероидима (0,5-2 године), путем смањења јачине протеинурије, превенира доцнију прогнозу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хибитор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и или у комбинацији са антагонистима рецептора ангиотензи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 снажно оправдање у терапи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не само да утичу на хипертензију и протеинурију него успоравају еволуцију бол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а је неопходна код деце са дифузном ендо и екстракапиларном пролиферацијом и клиничком сликом нефротског или нефритичког синдрома са нарушеном функцијом бубрега (велике дозе преднизолона, циклофосфамид са или без антикоагулантних или антитромбоцитних ле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727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87280" y="1057320"/>
          <a:ext cx="7201080" cy="5400720"/>
        </p:xfrm>
        <a:graphic>
          <a:graphicData uri="http://schemas.openxmlformats.org/drawingml/2006/table">
            <a:tbl>
              <a:tblPr/>
              <a:tblGrid>
                <a:gridCol w="2781360"/>
                <a:gridCol w="2129040"/>
                <a:gridCol w="229068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тни у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./нефрот.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 за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тел. полумесе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озит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озит. фиб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 компл.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S-1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ћан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АПСГ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утни постстрептококни гломерулонефритис (АПСГН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утно, имунолошким механизмима изазвано запаљење бубрега, које настаје, секундарно, као последица инфекције гуше или коже нефритогеним типовим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хемолитичког ст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ока груп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АПСГН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шешће несупуративно обољење бубрега у деце при чему велики број оболелих особа има благи или асимптоматски облик болести (однос броја асимптоматских према броју симптоматских пацијената варира од 2:1 до  3: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ла усмерених против стрептококних антигена, који су локализовани на зиду гломеруларних капилара и који доводе до активације система комплемент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. Зимоген-прекурсор егзотоxина B (SP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. Глицералдехид фосфат дехидрогеназа (GAPD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8840" y="301320"/>
            <a:ext cx="795636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ематурија је најчешћа уринарна абнормалност при чему се у 60-85% случајева деце хоспитализоване због (АПСГН) налазе еритроцитни цилиндри као доказ гломеруларне л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теинурија  не прелази 2g/m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д; само 2-5% деце са АПСГН има протеинурију нефротског ти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чна тежина урина је обично повишена, а способност ацидификације очу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За време АПСГН опада титар тоталног хемолитичког комплемента и појединих његових компоне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ђено је да концентрација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3 опада код више од 90% деце када се мери у прве две недеље болести, док је ниво C4 често норма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иво C5 и проп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на такође оп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иво комплемента се у целини враћа на нормалу за 6-8 недеља од почетка 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Хематурија означава присуство крви у мокраћ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АТОХИСТ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ада се исечак бубрежног ткива особе оболеле од АПСГН, добијен биопсијом, анализира имунофлоресцентним микроскопом-налаз су гранулирани депозити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gG и C3; ређе се у овим депозитима налазе IgM, IgA, C4, пропер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лектронском микроскопијом  бубрежног ткива код пацијената са АПСГН виде се субепителни густи депозити попут грбе или брежуљ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215640"/>
            <a:ext cx="85107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341360"/>
          <a:ext cx="8229600" cy="4251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рпура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SP)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5107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амн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лична, породич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ички преглед  (мерење артеријског прити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абораторијско испит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КС,, азотне материје у крви и урину, коагулациони статус, C3,C4,ANA,AS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ин, уринокул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утарњи урин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/Cr &lt;0,57mmol/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4h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Ca&lt;4mg/kg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хосонографија бубрега и уро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орадиолошко испитива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VP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C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ације за биопсију бубре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ентна мХ која траје дуже од једне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ентна мХ у комбинацији са повишеним серумским креатининином, сниженим компонентама комплемент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3,C4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ом или хипертенз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бар 2 епизоде М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позитивна породична анамнеза у смислу хематурије, азотемије, наглувости, бубрежне инсуфицијенције, умирања од болести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позитивна породична анамнеза су најбитнији крутеријуми за биопс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патолошки налаз с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а и Алпортов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цу са рекурентном хематуријом треба контролисати 1-2 пута годишње, у току 8-10 година, због могућих комплика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ална инсуфицијен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ру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C3,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8600" y="2874600"/>
            <a:ext cx="61722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ТЕИНУРИЈА СЕ ДЕФИНИ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ШЕ КАО ЕКСКРЕЦИЈА ПРОТЕИНА ИЗНАД ПРОСЕЧНЕ ДНЕВНЕ ЕКСКРЕЦИЈЕ КОД ДЕЦЕ ОДРЕЂЕНОГ УЗРАС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Ако се мери у мировању нормалне вредности су до 60mg/m2/24h што одговара 100mg/24h,осим код новорођенчади код којих је нормална протеинурија 150-240mg/m2/24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личину и састав протеина у урину здравих особа одређују 3 проц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Гломерулска филтрација протеина плаз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тубулска реапсорпција филтрованих протеина-процесом ендоцит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екскреција тубулских протеина(»секреција« протеина)-Tamm-Horsfallov проте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000" y="404640"/>
            <a:ext cx="79261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ломерулска филтрација протеин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з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виси 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собине протеина (молекулска маса, величина, конфигурација и електрични набој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онцентрације у плаз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труктурног и функционалног интегритета гломерулске филтрационе бариј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ритиска у гломерулима и протока крви, који одредјују величину ултрафилтр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ротеини мале мол. масе (албумини,пептидни хормони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деривати Ig, бета-2 микроглобулин, лизози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озитивно наелектрисани молек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овећање онкотског притиска у глом. капиларима или сманјење протока кроз 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спокска хематурија (МХ) -0,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ви у 5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рин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дљива голим оком, урин замућен и промењене бо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црвено, розе, браон, ц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кроскопска  хематурија (мх)-3 или више Ер у видном пољу на великом увеличању микроскопа, открива се хемијским тестовима и/или микроскопским прегледом урин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рин бис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У урину здравих особа 60% чине протеини плазме (40% албумини), а око 40% су ткивни протеини (углавном Tamm-Horsfall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урија се често открива рутинским прегледом урина код деце без клиничких симпт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лориметријским тестом са индикатором на папиру (тест траке) се семиквантитативно процењује концентрација протеина у ури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685800" y="285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br>
              <a:rPr sz="38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ст траке</a:t>
            </a:r>
            <a:r>
              <a:rPr b="0" lang="sr-C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Albustix,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14760" y="1785960"/>
          <a:ext cx="3643200" cy="320040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а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и 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dl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атив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5"/>
          <p:cNvSpPr/>
          <p:nvPr/>
        </p:nvSpPr>
        <p:spPr>
          <a:xfrm>
            <a:off x="642960" y="521496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ест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 траке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тетрабромо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ф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енол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плав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олориметри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јски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миквантитативн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Интензитет промена боје од жуте ка плавој означава количину протеина у у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ензитивност и специфичност за албумине&gt;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ст тра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3895560" cy="72216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</a:rPr>
              <a:t>Лажно   +   нала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6200" y="1413000"/>
            <a:ext cx="3897360" cy="7207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</a:rPr>
              <a:t>Лажно   -   нала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1320" y="2133720"/>
            <a:ext cx="4041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урин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пециф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чна тежина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макрохематури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р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риур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дуго држање траке у урин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д се трака изложи млазу урин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д су у урину присустни 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еназоп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идин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ск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терн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амон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састојц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3280" y="2349000"/>
            <a:ext cx="3897360" cy="20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ри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пец. теж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.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 албумински протеини: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MP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лобулини, мукопроте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Bence-Jones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в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те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скорбинска кисе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2124000" y="162864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>
            <a:off x="6519960" y="162864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лфосалицил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43080" y="907920"/>
          <a:ext cx="5143680" cy="4272120"/>
        </p:xfrm>
        <a:graphic>
          <a:graphicData uri="http://schemas.openxmlformats.org/drawingml/2006/table">
            <a:tbl>
              <a:tblPr/>
              <a:tblGrid>
                <a:gridCol w="2801880"/>
                <a:gridCol w="2341800"/>
              </a:tblGrid>
              <a:tr h="45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а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/l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муће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 од цигарете” </a:t>
                      </a:r>
                      <a:r>
                        <a:rPr b="0" lang="sr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-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ирно заму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ћ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ње :</a:t>
                      </a: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-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учење без преципитације (виде се тамне линије на белој подлози) </a:t>
                      </a: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: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-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учење са преципитациј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-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раст т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Box 3"/>
          <p:cNvSpPr/>
          <p:nvPr/>
        </p:nvSpPr>
        <p:spPr>
          <a:xfrm>
            <a:off x="755640" y="5300640"/>
            <a:ext cx="79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3 кап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20%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улфосалицилне киселине у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емиквантитативн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Интензитет замућења урина показује величину протеину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За разлику од тест трака открива и нискомолекуларну (тубулску) протеинур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лфосалицил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429080" y="178596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eorgia"/>
                <a:ea typeface="Arial"/>
              </a:rPr>
              <a:t>Лажно  +   на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код употреб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цефалосп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и.в. контрасна средства </a:t>
            </a:r>
            <a:r>
              <a:rPr b="0" lang="sr-Latn-CS" sz="2000" spc="-1" strike="noStrike">
                <a:solidFill>
                  <a:srgbClr val="000000"/>
                </a:solidFill>
                <a:latin typeface="Georgia"/>
                <a:ea typeface="Arial"/>
              </a:rPr>
              <a:t>(24 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концентрован у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фосф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пеници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сулфонам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Лажно  -   на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 тежина урина&lt;1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1"/>
          <p:cNvSpPr/>
          <p:nvPr/>
        </p:nvSpPr>
        <p:spPr>
          <a:xfrm>
            <a:off x="5867280" y="1890720"/>
            <a:ext cx="35748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5727600" y="563868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268280"/>
            <a:ext cx="820116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У 24-часовној колекцији урина вредности изнад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150mg/dan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реба сматрати 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олошк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Код млађе деце, где се тешко сакупља урин, користи се однос протеини/креатинин у 1 узорку ури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(mg/mg) &lt;0,2 означава нормалну екскрецију проте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0,2-0,5 минималн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0,5-2  умерен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&gt;2 нефротск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КЛАСИФИКАЦИЈА ПРОТЕИНУРИЈ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) НЕПАТОЛОШКА ПРO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) ПАТОЛОШКА ПРO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НЕ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603440"/>
            <a:ext cx="821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Она није резултат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е прелази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1g/24h или 2+ на тест траци; транзиторна је или интермитент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остурална (ортосtаtска)-tесt зa орtосtatску протеинурију -налаз нормaлне екскреције протеина у лeжeћeм (&lt;4mg/m2/h) и повећане екскреције у усправном положај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ротеинурија у току фебрилности-код температуре&gt;38,3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ротеинурија код физичких вежби или напора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267920"/>
            <a:ext cx="8201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омерулска протеинурија је резултат болести бубре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реће се у распону 1g-30g/l; перзистентна је и праћена знацима основне боле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фротски синдром (Идиопатски, конгенитални, инфантил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омерулонефритис  (Постинфекцијски; SLE; примарни-МП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ронични пијелонеф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МА МЕСТУ НАСТ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А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ундр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РЕНА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убулска протеинурија је резултат смањене реапсорпције и губитка протеина мале молекулске масе урино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е прелази 1g/24h; перзистентна је и праћена је знацима дисфункције проксималног тубула (гликозурија, фосфатурија, губитак бикарбоната и аминоацидурија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аследне болести (Цистиноза, Sy. Lowe; Wilsonова болест; Галактозем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Стечене болести (ТИН, Акутна тубулска некроза; Тровање тешким металим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Diagram 2" descr=""/>
          <p:cNvPicPr/>
          <p:nvPr/>
        </p:nvPicPr>
        <p:blipFill>
          <a:blip r:embed="rId1"/>
          <a:stretch/>
        </p:blipFill>
        <p:spPr>
          <a:xfrm>
            <a:off x="-6480" y="1195560"/>
            <a:ext cx="9156960" cy="54673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7236000" y="2643120"/>
            <a:ext cx="172872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ередит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7429680" y="3357720"/>
            <a:ext cx="142848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е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9"/>
          <p:cNvSpPr/>
          <p:nvPr/>
        </p:nvSpPr>
        <p:spPr>
          <a:xfrm>
            <a:off x="7143840" y="3214800"/>
            <a:ext cx="85716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1"/>
          <p:cNvSpPr/>
          <p:nvPr/>
        </p:nvSpPr>
        <p:spPr>
          <a:xfrm flipV="1">
            <a:off x="8001000" y="3000240"/>
            <a:ext cx="144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3"/>
          <p:cNvSpPr/>
          <p:nvPr/>
        </p:nvSpPr>
        <p:spPr>
          <a:xfrm flipH="1">
            <a:off x="8001000" y="3214800"/>
            <a:ext cx="1440" cy="142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429680" y="4071960"/>
            <a:ext cx="142848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7308720" y="4786200"/>
            <a:ext cx="165600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6"/>
          <p:cNvSpPr/>
          <p:nvPr/>
        </p:nvSpPr>
        <p:spPr>
          <a:xfrm>
            <a:off x="7143840" y="4643280"/>
            <a:ext cx="85716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5"/>
          <p:cNvSpPr/>
          <p:nvPr/>
        </p:nvSpPr>
        <p:spPr>
          <a:xfrm>
            <a:off x="8001000" y="4500720"/>
            <a:ext cx="0" cy="287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Brace 12"/>
          <p:cNvSpPr/>
          <p:nvPr/>
        </p:nvSpPr>
        <p:spPr>
          <a:xfrm>
            <a:off x="1714680" y="3071880"/>
            <a:ext cx="214200" cy="171432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714320"/>
              <a:gd name="textAreaBottom" fmla="*/ 170892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0" y="357192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ортоста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Болеснике треба контролисати на 6-12 месец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физикални преглед и мерење крвног притис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рутински преглед ур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клиренс креатин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одређивање укупне протеинурије у 24-часовном ури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603440"/>
            <a:ext cx="82011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Индикације за биопсију бубре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ерзистентна асимптоматска протеинур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&gt;1g/2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блага протеинурија која се компликује хематуријом,хипертензијом, сниженим комплемент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); смањеном функцијом бубрега или серолошким доказима системске болести вез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урија и хипоалбуминемија у узрасту &lt;1 или &gt;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ТЕРАПИЈА ПРОТЕИНУРИЈ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нтипротеинурични лекови умањују негативне ефекте протеинурије и успоравају прогресију болести ка бубрежној инсуфицијенциј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ЦЕ инхибитор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нтагонисти рецептора ангиотензина I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нестероидни антиинфламаторни лек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ктеријске: узрок микрохематурије код 50% деце је 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ирусне: адено вируси тип 11 и 21 дају хеморагијске цис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РОЛИТИЈАЗА И ХИПЕРКАЛЦИ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Х или РМХ или м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зурија са стерилним уринокулту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ол у трбу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.С. нема хиперкалц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ГЕНИТАЛНЕ АНОМ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дронеф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ицистични бубре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lmsov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ЗИЧКИ НАПОР-МХ која траје 48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ајвероватније 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ОВИ- циклофосфамид изазива хемијски цис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ОЛОШКИ УЗРО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уство 75% неизмењених еритроцита (биконкавни) на фазном микроскопу говори у прилог негломерулске хематурије (не треба биопс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исуство еритроцитних цилиндара је увек патолошки налаз који указује на гломерулску хематур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Е ГЛОМЕРУЛ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курентне макрохематур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портов 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диопатска хематуриј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AP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)MP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)M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)RPGN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8:28:32Z</dcterms:created>
  <dc:creator>vvinfo</dc:creator>
  <dc:description/>
  <dc:language>en-US</dc:language>
  <cp:lastModifiedBy>User</cp:lastModifiedBy>
  <dcterms:modified xsi:type="dcterms:W3CDTF">2016-10-25T12:57:51Z</dcterms:modified>
  <cp:revision>40</cp:revision>
  <dc:subject/>
  <dc:title>Slide 1</dc:title>
</cp:coreProperties>
</file>