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C255-D2A7-4092-97A1-538680A1A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32D4-08C4-4C16-B4E2-BCC906E66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A7B9-3587-4197-AB82-BFDBAF28C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0100-5F36-47D5-82AD-4C642E6F0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3A19-0B3F-4F9E-A329-FCB4ADB54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914B-F2C7-4371-9D9E-5691108E4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2FCD-43A4-4D53-89D5-75BC51738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D7A1-284C-43E8-9A47-694CC1A5B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F19B-2AF8-4483-A7B9-D1E1EAA7F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2D08-0ABC-408A-8C41-9DD1E8C78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80B2-05DC-4E00-BD53-908AF6C0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91A5-ABD9-4F7E-9C97-B53E3963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9D4DF-4E6F-4C9F-8251-3740065CE5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2822400"/>
            <a:ext cx="84247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Хронична бубрежна инсуфицијенциј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556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898989"/>
                </a:solidFill>
                <a:latin typeface="Calibri"/>
              </a:rPr>
              <a:t>Проф. др Ана Вуји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3724200" y="333360"/>
            <a:ext cx="1695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ЛИНИЧКА СЛИКА ХБ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имптоми и знаци поремећаја регулаторне и екскреторне функције бубрега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1) поремећај волумена воде и електролитног балан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2) поремећаји ацидо-базне равнотеж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3) ретенце азотних и других метаболи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4) поремећаји у регулацији крвног притиска и стварања еритроци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ЛИНИЧКА СЛИКА ХБ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ремијски токсини су са хормонским поремећајем, електролитним дисбалансом и ацидозом одговорни за метаболичке поремећаје и поремећаје у раду многих органа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Поремећај метаболизма масти (повишени TG,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LDL,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VLDL)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 УХ (интолеранција угљенихидрата, хиперинсулинизам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нижена способност концентрисања ури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ремећај метаболизма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Ca, P и ренална остеодистрофија (коштани деформитети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ЛИНИЧКА СЛИКА ХБ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Код пада ГФ испод 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25 ml/min/ 1,73 m²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испољава се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Застој у расту (ендокринолошки поремећаји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Знаци протеинске малнутриције (губитак мишићне масе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Успорен и неправилан психомоторни развој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Периферна неуропатија са оштећењем сензорних и моторних функција и повећана неуромускуларна раздражљивост  праћена грчевима и конвулзијам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Кожа сува, сиво-жуте боје, појачан свра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Едеми, тахипноа, диспнеја (хиперволемија, ацидоза, Н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A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ЛИНИЧКА СЛИКА ХБ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7168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У терминалној фази јавља се нормоцитна, нормохромна анемија због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1) смањеног стварања еритропоетина услед губитка функционалног паренхим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2) успорене еритропоезе услед неосетљивости еритроидне лозе на еритропоетин у присуству уремијских токсин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3) хемолизе изазване уремијским токсиним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4) крварења због смањенја броја тромбоцита и оштећења функциј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ЛИНИЧКА СЛИКА ХБ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У терминалној фази  јавља се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Артеријска хипертензија (80-90%) са знацима циркулаторне конгестије, едемом плућа, кардиомегалијом и галопним ритмом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Ретинопатиј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Поремећај свест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Повраћање, дијареја,  мелен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ВОЂЕЊЕ И ЛЕЧЕЊЕ БОЛЕСНИКА СА ХБ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57200" y="1600200"/>
          <a:ext cx="8229600" cy="4678200"/>
        </p:xfrm>
        <a:graphic>
          <a:graphicData uri="http://schemas.openxmlformats.org/drawingml/2006/table">
            <a:tbl>
              <a:tblPr/>
              <a:tblGrid>
                <a:gridCol w="2243160"/>
                <a:gridCol w="2879640"/>
                <a:gridCol w="31068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мањена функ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</a:t>
                      </a: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r&gt; 50ml/min/1,73m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дговарајући дијететски режим (»нормалан живот«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6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ронична БИ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lang="sr-Latn-CS" sz="1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r  50-20/min/1,73m²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чење остеодистрофије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трола ацидобазног и електролитног баланс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54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ремиј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lang="sr-Latn-CS" sz="1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r  20-10/min/1,73m²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ијетотерапиј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тензивно конзерватиивно лечење (хипекалемија, хипертензија, ацидоза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54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рминална БИ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lang="sr-Latn-CS" sz="1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r&lt; 10/min/1,73m²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езбедити приступ крвним судовима за хемодијализу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ансплантација или хемодијализ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ХИГИЈЕНСКО-ДИЈЕТЕТСКИ  РЕЖИ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Омогућава нормалан раст и развој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Штеди преостале нефроне од брзог пропадањ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У стадијуму прогресије ХБИ унос протеина за децу до 12 година је 100%, а за старију 80% потреба здравог детета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У терминалном стадијуму, ако се лече хемодијализама унос протеина се повећава за 10-20%, а ако се лече перитонеумском дијализом за 30-50%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15-20% укупне дневне количине може бити у виду есенцијалних аминокиселина или њихових кетоаналог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НОС ВОД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Регулисан је осећајем жеђи болесника до терминалног стадијума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У стадијуму терминалне БИ, када болесник улази у олигуричну фазу,  ограничава се на 300-500 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ml/m²/24h (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перспирација)  + губитак урином и столицом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Унос 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Na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се не ограничава до терминалног стадијума изузев ако болесник има хипертензију 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(1-2mmol/kg/24h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НОС КАЛИЈУ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Упутити болесника да избегава храну богату калијум (суво воће, поморанџе, парадајз, ораси, чоколада, кока-кола) када клиренс креатинина падне испод 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20ml/min/1,73m²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Смоле јонски-измењивачи ( у ГИТ-у измењују 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K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N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У случајевима тешке хиперкалемије лeчeњe јe као у АБ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ЕВЕНЦИЈА И ЛЕЧЕЊЕ РЕНАЛНЕ ОСТЕОДИСТРОФИЈЕ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D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Превенција РОД започиње када је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cr</a:t>
            </a:r>
            <a:r>
              <a:rPr b="0" lang="sr-CS" sz="2600" spc="-1" strike="noStrike">
                <a:solidFill>
                  <a:srgbClr val="000000"/>
                </a:solidFill>
                <a:latin typeface="Tahoma"/>
                <a:ea typeface="Tahoma"/>
              </a:rPr>
              <a:t>&lt;60мл/мин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  <a:ea typeface="Tahoma"/>
              </a:rPr>
              <a:t>Вит.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  <a:ea typeface="Tahoma"/>
              </a:rPr>
              <a:t>D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  <a:ea typeface="Tahoma"/>
              </a:rPr>
              <a:t>3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  <a:ea typeface="Tahoma"/>
              </a:rPr>
              <a:t>(4-8000IJ/24h) 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  <a:ea typeface="Tahoma"/>
              </a:rPr>
              <a:t>или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  <a:ea typeface="Tahoma"/>
              </a:rPr>
              <a:t>1,25 (OH)2 D3 (0,12-0,50mg/24h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  <a:ea typeface="Tahoma"/>
              </a:rPr>
              <a:t>CaCO3 (300-500 mg/24h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  <a:ea typeface="Tahoma"/>
              </a:rPr>
              <a:t>Стриктна контрола уноса фосфора храном (контрoла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  <a:ea typeface="Tahoma"/>
              </a:rPr>
              <a:t>Ca, P 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  <a:ea typeface="Tahoma"/>
              </a:rPr>
              <a:t>и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  <a:ea typeface="Tahoma"/>
              </a:rPr>
              <a:t>PTH 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  <a:ea typeface="Tahoma"/>
              </a:rPr>
              <a:t>серума и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  <a:ea typeface="Tahoma"/>
              </a:rPr>
              <a:t>1-2x 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  <a:ea typeface="Tahoma"/>
              </a:rPr>
              <a:t>годишње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  <a:ea typeface="Tahoma"/>
              </a:rPr>
              <a:t>Rtg 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  <a:ea typeface="Tahoma"/>
              </a:rPr>
              <a:t>костију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  <a:ea typeface="Tahoma"/>
              </a:rPr>
              <a:t>Терапиј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R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  <a:ea typeface="Tahoma"/>
              </a:rPr>
              <a:t>Већe дозe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  <a:ea typeface="Tahoma"/>
              </a:rPr>
              <a:t>1,25 (OH)2 D3 i CaCO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042560" y="1773000"/>
            <a:ext cx="7201080" cy="386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Хронична бубрежна инсуфицијенција (ХБИ) је стање које настаје због прогресивног, иреверзибилног оштећења бубрега, одражава се поремећајем у раду низа органа, а сами бубрези нису у могућности да одрже запремину и састав течности у норма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ЛЕЧЕЊЕ АЦИДОЗ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Корекција се врши према гасним анализама само до нивоа бикарбобата у серуму од 1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8mmol/l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 да се не би погоршала хипертензија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1-3 mmol/kg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бикарбонат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Ако се испољи манифестна хипокалцемична тетанија у комбинацији са ацидозом потребно је претходно кориговати хипокалцемиј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ЛЕЧЕЊЕ АНЕМ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Лечити сидеропенију препаратима гвожђ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Хумани рекомбинантни еритропоетин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25-75 J/ kg TT    1-3x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недељно 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sc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i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У дијализираних болесника се дају препарати  фолне киселине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1-5mg/kg TT/24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ЛЕЧЕЊЕ ХИПЕРТЕНЗИЈЕ И СРЧАНЕ ИНСУФИЦИЈЕНЦ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Артеријска хипертензија као последица хиперволемије се лечи диуретицима и ултрафилтрацијом у току дијализ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У хиперволемијским стањима за брзу контролу су корисни калцијум-блокатори 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нифедипин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Хиперренинска хипертензија се лечи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CE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инхибиторима 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налаприл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и бета-блокаторим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Ретко рефрактарна, малигна хипертензија у уремичне деце захтева нефректомиј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Ако су потребни кардиотоници дозу треба редуковати према резидуалној функцији бубрег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ЛЕЧЕЊЕ ИНФЕКЦ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Енергично лечит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Лекове који се излучују исклучиво путем бубрега потребно је давати у дозама које се смањују паралелно са смањењем функције бубрега (цефалоспорини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Нефротоксичне лекове треба избегавати или давати у одговарајуће умањеним дозама (аминогликозиди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ХРОНИЧНА БУБРЕЖНА ИНСУФИЦИЈЕНЦИЈА КОД ДЕЦ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ХБИ  се м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же дефинисати и као сва клиничка стања  код којих су концентрације креатинина у серуму повећане изнад 2 SD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 односу на нормалне вредности за пол и узрас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нцентрација плазма-креатинина (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Barratt i Chantler 197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600200"/>
          <a:ext cx="8263080" cy="4829040"/>
        </p:xfrm>
        <a:graphic>
          <a:graphicData uri="http://schemas.openxmlformats.org/drawingml/2006/table">
            <a:tbl>
              <a:tblPr/>
              <a:tblGrid>
                <a:gridCol w="2743200"/>
                <a:gridCol w="2776680"/>
                <a:gridCol w="2743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   </a:t>
                      </a: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зра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едња вредност </a:t>
                      </a: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µmol/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</a:t>
                      </a: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аспон</a:t>
                      </a: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(± 2 S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в пупча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-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2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дeљ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-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-26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дeљ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-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-52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дeљ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-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ди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-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ди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-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год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-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д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-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д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-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год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-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драстао мушкара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-1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драсла ж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-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ТИОЛОГИЈА ХБ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нфективне (хронични пијелонефритис) или iнфламаторне болести (GN)</a:t>
            </a:r>
            <a:br>
              <a:rPr sz="2700"/>
            </a:b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2) аномалије бубрега и уротракта (опструктивне уропатије )</a:t>
            </a:r>
            <a:br>
              <a:rPr sz="2700"/>
            </a:b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3) наследни бубрежни поремећаји </a:t>
            </a:r>
            <a:br>
              <a:rPr sz="2700"/>
            </a:b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4) болести везивног ткива (SLE, HUS, HSP) </a:t>
            </a:r>
            <a:br>
              <a:rPr sz="2700"/>
            </a:b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5) метаболички поремећаји (шећерна болест, амилоидоза)</a:t>
            </a:r>
            <a:br>
              <a:rPr sz="2700"/>
            </a:b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6) токсичне нефропатије</a:t>
            </a:r>
            <a:br>
              <a:rPr sz="2700"/>
            </a:b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7) хипертензивне васкуларне болeсти (нeфросклeроза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ТИОЛОГИЈА ХБ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Од гломерулских обољења (25,8%) најчешћи узрок ХБИ су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1. стероид резистентни нефротски синдром са фокалном гломерулском склерозом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2. мембрано пролиферативни гломерулонефритис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sr-Latn-CS" sz="1900" spc="-1" strike="noStrike">
                <a:solidFill>
                  <a:srgbClr val="000000"/>
                </a:solidFill>
                <a:latin typeface="Calibri"/>
              </a:rPr>
              <a:t>IgA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 нефропатија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3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Хронични пијелонефритис (24,6%) у деце представља учесталост примарног и секундарног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VUR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-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Најчешћа хередитарна обољења (15,6%)  која доводе до ХБИ су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1. јувенилна нефронофтиз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2. цистиноз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3. цистичне болести бубрег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Alport-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ов нефритис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зроци ХБИ у болесника лечених хемодијализама </a:t>
            </a: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1980- 1990. год.  на УДК у Београд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1600200"/>
          <a:ext cx="8229600" cy="4829040"/>
        </p:xfrm>
        <a:graphic>
          <a:graphicData uri="http://schemas.openxmlformats.org/drawingml/2006/table">
            <a:tbl>
              <a:tblPr/>
              <a:tblGrid>
                <a:gridCol w="3106800"/>
                <a:gridCol w="2379600"/>
                <a:gridCol w="2743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оле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рој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ФЛУКСНА НЕФРОПАТ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ЛОМЕРУЛСКЕ БОЛЕ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ЈУВЕНИЛНА НЕФРОНОФТИ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ОВАЊЕ ГЉИВА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ИПОПЛАЗИЈА/ДИСПЛАЗ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ЛКУЛО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КСАЛО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PORT-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В СИНДР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 WIL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ИСТИНО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ПОЗНАТЕ ЕТИОЛОГИЈ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ТИОЛОГИЈА ХБ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Конгенитална обољења бубрега и уринарног тракта раније изазивају ХБИ, већ у првим годинама живота, док хередитарне и стечене болести бубрега  касније доводе до ХБИ, обично између 5 и 15 год. живот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ЛИНИЧКА СЛИКА ХБ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во стање пролази кроз 4 фаз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I фаза: повећана бубрежна функционална резерва; ГФ(гломеруларна филтрација) снижена на 30-50ml/min/1,73 m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II фаза: смањенa екскреторнa функцијa бубрeгa сa raзвојeм aзотeмијe;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ГФ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je 15-30ml/min /1,73 m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III фаза: полисистемски функционални поремећаји, ГФ је око 10ml/min /1,73 m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IV фаза: терминални стадијум, ГФ испод 10ml/min /1,73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m²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10:14:30Z</dcterms:created>
  <dc:creator>vvinfo</dc:creator>
  <dc:description/>
  <dc:language>en-US</dc:language>
  <cp:lastModifiedBy>User</cp:lastModifiedBy>
  <dcterms:modified xsi:type="dcterms:W3CDTF">2014-08-12T13:19:12Z</dcterms:modified>
  <cp:revision>64</cp:revision>
  <dc:subject/>
  <dc:title>Slide 1</dc:title>
</cp:coreProperties>
</file>