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5B0E-3238-4379-B633-DC69EDE5D53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B9CD-8A07-4940-8552-4A675FC455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CC37-195D-4BA4-88E1-A4407BF86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A9F-508D-4594-AD6C-8ED90721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E14-670D-4F74-BE45-2CC4EFDC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8A3-7732-4D84-882F-9EBA628A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C8B-C94A-464B-84C4-E632F2D4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458-2F8F-4B10-9B2E-58547556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999-AF72-4B60-AF6A-905DDB3E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8E2-0E04-4108-B849-4AC014E3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58A-936D-4C2A-9994-FD68D181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408-6A8D-4923-85D3-0CC92046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C05-2E1D-4EB9-AA3C-CCF96089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D00-0267-4EE8-A76D-AED758F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F20-F0DD-4CB9-AFD1-F010496D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EB9-BEC0-4C27-91E9-11403704513A}" type="slidenum">
              <a:rPr b="0" lang="en-US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56040"/>
            <a:ext cx="7772400" cy="18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Calibri Light"/>
              </a:rPr>
              <a:t>НОЋНО УМОКРАВАЊЕ </a:t>
            </a:r>
            <a:r>
              <a:rPr b="0" lang="sr-Latn-CS" sz="4300" spc="-1" strike="noStrike">
                <a:solidFill>
                  <a:srgbClr val="000000"/>
                </a:solidFill>
                <a:latin typeface="Calibri Light"/>
              </a:rPr>
              <a:t>(ENURESIS NOCTURNA) </a:t>
            </a:r>
            <a:r>
              <a:rPr b="0" lang="sr-RS" sz="4300" spc="-1" strike="noStrike">
                <a:solidFill>
                  <a:srgbClr val="000000"/>
                </a:solidFill>
                <a:latin typeface="Calibri Light"/>
              </a:rPr>
              <a:t>КОД ДЕЦЕ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51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ф. др Ана Вуј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5760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158400"/>
            <a:ext cx="788688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Узроци ноћног умокравања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43280" y="1825200"/>
            <a:ext cx="5672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оси ризик уколико су се оба родитеља умокравала ноћ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3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оси ризик уколико се један од родитеља умокрав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носи ризик иако се нико у породици није умокрав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11040" y="1847880"/>
            <a:ext cx="2298960" cy="4329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24480" y="1177920"/>
            <a:ext cx="37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 Light"/>
              </a:rPr>
              <a:t>Породична ист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187280" y="6330960"/>
            <a:ext cx="77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400" spc="-1" strike="noStrike">
                <a:solidFill>
                  <a:srgbClr val="000000"/>
                </a:solidFill>
                <a:latin typeface="Calibri"/>
              </a:rPr>
              <a:t>Bakwin. Am J Dis Child 1971;121;222–5; Jarvelin et al. Acta Paediatr Scand 1988;77:148–5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274040" y="2276640"/>
            <a:ext cx="685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сихолошки проблеми су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 u="sng">
                <a:solidFill>
                  <a:srgbClr val="000000"/>
                </a:solidFill>
                <a:uFillTx/>
                <a:latin typeface="Calibri"/>
              </a:rPr>
              <a:t>последица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а не узрок ноћног умокравањ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remember going to this camp with my brown rubber she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a bedwetter until I was se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was so embarrassed at                   that camp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44546a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rbra Streis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Друштвени и лични печа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a bedwe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w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ug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unpopu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had a chronic coug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was coward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smelt.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orge Or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Самопоштовање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 детињства се развија упадљив ритам стварања мокраће. Ово омогућава смањење диурезе ноћу до приближно 50% дневних ниво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ањење стварања урина током ноћи дозбољава непрекинут сан уз пуну беши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во омогучава ноћно стварање хормона који регулишу излучивање слободне воде (аргинин вазопресин -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VI5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, или излучиивање електролита (ангиотензин 2 и алдострео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то је мокраћа веће концентрације и мање запремине током с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ше од 50% пацијената са ноћним умокравањем има недостатак у циркадијалном ритму лучења вазопресина, што доводи до стварања мокраће током ноћи толико да количина превазилази капацитет беш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 овакве пацијенте се каже да пате од ноћне полиур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CS slide library v1 201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1"/>
          <p:cNvSpPr/>
          <p:nvPr/>
        </p:nvSpPr>
        <p:spPr>
          <a:xfrm>
            <a:off x="6661080" y="6570720"/>
            <a:ext cx="2133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165400" y="57960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648840" y="57927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o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 rot="16200000">
            <a:off x="60480" y="468000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родукција у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8"/>
          <p:cNvSpPr/>
          <p:nvPr/>
        </p:nvSpPr>
        <p:spPr>
          <a:xfrm rot="16200000">
            <a:off x="57240" y="2517840"/>
            <a:ext cx="19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родукција ур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895400" y="4175280"/>
            <a:ext cx="5504040" cy="16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10"/>
          <p:cNvSpPr/>
          <p:nvPr/>
        </p:nvSpPr>
        <p:spPr>
          <a:xfrm>
            <a:off x="2319480" y="4583160"/>
            <a:ext cx="4781520" cy="37296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3012" h="235">
                <a:moveTo>
                  <a:pt x="0" y="206"/>
                </a:moveTo>
                <a:cubicBezTo>
                  <a:pt x="43" y="211"/>
                  <a:pt x="36" y="235"/>
                  <a:pt x="260" y="235"/>
                </a:cubicBezTo>
                <a:cubicBezTo>
                  <a:pt x="484" y="235"/>
                  <a:pt x="1104" y="235"/>
                  <a:pt x="1346" y="205"/>
                </a:cubicBezTo>
                <a:cubicBezTo>
                  <a:pt x="1588" y="175"/>
                  <a:pt x="1472" y="82"/>
                  <a:pt x="1714" y="53"/>
                </a:cubicBezTo>
                <a:cubicBezTo>
                  <a:pt x="1956" y="24"/>
                  <a:pt x="2590" y="0"/>
                  <a:pt x="2801" y="28"/>
                </a:cubicBezTo>
                <a:cubicBezTo>
                  <a:pt x="3012" y="56"/>
                  <a:pt x="2944" y="182"/>
                  <a:pt x="2982" y="22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11"/>
          <p:cNvSpPr/>
          <p:nvPr/>
        </p:nvSpPr>
        <p:spPr>
          <a:xfrm>
            <a:off x="2333520" y="4919760"/>
            <a:ext cx="4711680" cy="67788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2968" h="427">
                <a:moveTo>
                  <a:pt x="2965" y="2"/>
                </a:moveTo>
                <a:lnTo>
                  <a:pt x="2968" y="427"/>
                </a:lnTo>
                <a:lnTo>
                  <a:pt x="0" y="427"/>
                </a:lnTo>
                <a:lnTo>
                  <a:pt x="1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898640" y="1996920"/>
            <a:ext cx="5504040" cy="16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3"/>
          <p:cNvSpPr/>
          <p:nvPr/>
        </p:nvSpPr>
        <p:spPr>
          <a:xfrm>
            <a:off x="2324160" y="2473200"/>
            <a:ext cx="4730760" cy="649440"/>
          </a:xfrm>
          <a:custGeom>
            <a:avLst/>
            <a:gdLst>
              <a:gd name="textAreaLeft" fmla="*/ 0 w 4730760"/>
              <a:gd name="textAreaRight" fmla="*/ 4731120 w 47307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980" h="409">
                <a:moveTo>
                  <a:pt x="2980" y="74"/>
                </a:moveTo>
                <a:cubicBezTo>
                  <a:pt x="2914" y="123"/>
                  <a:pt x="2795" y="327"/>
                  <a:pt x="2577" y="368"/>
                </a:cubicBezTo>
                <a:cubicBezTo>
                  <a:pt x="2359" y="409"/>
                  <a:pt x="1886" y="376"/>
                  <a:pt x="1672" y="323"/>
                </a:cubicBezTo>
                <a:cubicBezTo>
                  <a:pt x="1458" y="270"/>
                  <a:pt x="1536" y="102"/>
                  <a:pt x="1293" y="51"/>
                </a:cubicBezTo>
                <a:cubicBezTo>
                  <a:pt x="1050" y="0"/>
                  <a:pt x="426" y="5"/>
                  <a:pt x="213" y="15"/>
                </a:cubicBezTo>
                <a:cubicBezTo>
                  <a:pt x="0" y="25"/>
                  <a:pt x="56" y="90"/>
                  <a:pt x="15" y="11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2355840" y="2590920"/>
            <a:ext cx="4711680" cy="85248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968" h="537">
                <a:moveTo>
                  <a:pt x="2968" y="0"/>
                </a:moveTo>
                <a:lnTo>
                  <a:pt x="2968" y="537"/>
                </a:lnTo>
                <a:lnTo>
                  <a:pt x="0" y="537"/>
                </a:lnTo>
                <a:lnTo>
                  <a:pt x="2" y="22"/>
                </a:ln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855800" y="1589040"/>
            <a:ext cx="28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еца без енур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659480" y="1901880"/>
            <a:ext cx="0" cy="4195800"/>
          </a:xfrm>
          <a:prstGeom prst="line">
            <a:avLst/>
          </a:prstGeom>
          <a:ln w="50760">
            <a:solidFill>
              <a:srgbClr val="0000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893600" y="373212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еца са енуре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8"/>
          <p:cNvSpPr/>
          <p:nvPr/>
        </p:nvSpPr>
        <p:spPr>
          <a:xfrm rot="16200000">
            <a:off x="769680" y="264168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вазопрес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9"/>
          <p:cNvSpPr/>
          <p:nvPr/>
        </p:nvSpPr>
        <p:spPr>
          <a:xfrm rot="16200000">
            <a:off x="842400" y="473616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вазопрес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0"/>
          <p:cNvSpPr/>
          <p:nvPr/>
        </p:nvSpPr>
        <p:spPr>
          <a:xfrm>
            <a:off x="2382840" y="2298600"/>
            <a:ext cx="4649760" cy="1049400"/>
          </a:xfrm>
          <a:custGeom>
            <a:avLst/>
            <a:gdLst>
              <a:gd name="textAreaLeft" fmla="*/ 0 w 4649760"/>
              <a:gd name="textAreaRight" fmla="*/ 4650120 w 4649760"/>
              <a:gd name="textAreaTop" fmla="*/ 0 h 1049400"/>
              <a:gd name="textAreaBottom" fmla="*/ 1049400 h 1049400"/>
            </a:gdLst>
            <a:ahLst/>
            <a:rect l="textAreaLeft" t="textAreaTop" r="textAreaRight" b="textAreaBottom"/>
            <a:pathLst>
              <a:path w="2929" h="661">
                <a:moveTo>
                  <a:pt x="0" y="602"/>
                </a:moveTo>
                <a:lnTo>
                  <a:pt x="103" y="646"/>
                </a:lnTo>
                <a:lnTo>
                  <a:pt x="242" y="602"/>
                </a:lnTo>
                <a:lnTo>
                  <a:pt x="345" y="617"/>
                </a:lnTo>
                <a:lnTo>
                  <a:pt x="506" y="661"/>
                </a:lnTo>
                <a:lnTo>
                  <a:pt x="712" y="639"/>
                </a:lnTo>
                <a:lnTo>
                  <a:pt x="785" y="602"/>
                </a:lnTo>
                <a:lnTo>
                  <a:pt x="866" y="536"/>
                </a:lnTo>
                <a:lnTo>
                  <a:pt x="932" y="595"/>
                </a:lnTo>
                <a:lnTo>
                  <a:pt x="1050" y="646"/>
                </a:lnTo>
                <a:lnTo>
                  <a:pt x="1189" y="624"/>
                </a:lnTo>
                <a:lnTo>
                  <a:pt x="1240" y="558"/>
                </a:lnTo>
                <a:lnTo>
                  <a:pt x="1292" y="587"/>
                </a:lnTo>
                <a:lnTo>
                  <a:pt x="1351" y="529"/>
                </a:lnTo>
                <a:lnTo>
                  <a:pt x="1387" y="382"/>
                </a:lnTo>
                <a:lnTo>
                  <a:pt x="1490" y="37"/>
                </a:lnTo>
                <a:lnTo>
                  <a:pt x="1556" y="15"/>
                </a:lnTo>
                <a:lnTo>
                  <a:pt x="1607" y="125"/>
                </a:lnTo>
                <a:lnTo>
                  <a:pt x="1659" y="242"/>
                </a:lnTo>
                <a:lnTo>
                  <a:pt x="1732" y="265"/>
                </a:lnTo>
                <a:lnTo>
                  <a:pt x="1791" y="213"/>
                </a:lnTo>
                <a:lnTo>
                  <a:pt x="1879" y="8"/>
                </a:lnTo>
                <a:lnTo>
                  <a:pt x="1974" y="191"/>
                </a:lnTo>
                <a:lnTo>
                  <a:pt x="2018" y="294"/>
                </a:lnTo>
                <a:lnTo>
                  <a:pt x="2085" y="309"/>
                </a:lnTo>
                <a:lnTo>
                  <a:pt x="2136" y="169"/>
                </a:lnTo>
                <a:lnTo>
                  <a:pt x="2158" y="37"/>
                </a:lnTo>
                <a:lnTo>
                  <a:pt x="2231" y="140"/>
                </a:lnTo>
                <a:lnTo>
                  <a:pt x="2290" y="140"/>
                </a:lnTo>
                <a:lnTo>
                  <a:pt x="2371" y="22"/>
                </a:lnTo>
                <a:lnTo>
                  <a:pt x="2422" y="0"/>
                </a:lnTo>
                <a:lnTo>
                  <a:pt x="2532" y="206"/>
                </a:lnTo>
                <a:lnTo>
                  <a:pt x="2584" y="301"/>
                </a:lnTo>
                <a:lnTo>
                  <a:pt x="2664" y="154"/>
                </a:lnTo>
                <a:lnTo>
                  <a:pt x="2723" y="162"/>
                </a:lnTo>
                <a:lnTo>
                  <a:pt x="2760" y="257"/>
                </a:lnTo>
                <a:lnTo>
                  <a:pt x="2870" y="448"/>
                </a:lnTo>
                <a:lnTo>
                  <a:pt x="2929" y="617"/>
                </a:lnTo>
              </a:path>
            </a:pathLst>
          </a:custGeom>
          <a:noFill/>
          <a:ln w="31680">
            <a:solidFill>
              <a:srgbClr val="b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1"/>
          <p:cNvSpPr/>
          <p:nvPr/>
        </p:nvSpPr>
        <p:spPr>
          <a:xfrm>
            <a:off x="2394000" y="4500720"/>
            <a:ext cx="4660920" cy="968040"/>
          </a:xfrm>
          <a:custGeom>
            <a:avLst/>
            <a:gdLst>
              <a:gd name="textAreaLeft" fmla="*/ 0 w 4660920"/>
              <a:gd name="textAreaRight" fmla="*/ 4661280 w 4660920"/>
              <a:gd name="textAreaTop" fmla="*/ 0 h 968040"/>
              <a:gd name="textAreaBottom" fmla="*/ 968400 h 968040"/>
            </a:gdLst>
            <a:ahLst/>
            <a:rect l="textAreaLeft" t="textAreaTop" r="textAreaRight" b="textAreaBottom"/>
            <a:pathLst>
              <a:path w="2936" h="610">
                <a:moveTo>
                  <a:pt x="0" y="411"/>
                </a:moveTo>
                <a:lnTo>
                  <a:pt x="74" y="96"/>
                </a:lnTo>
                <a:lnTo>
                  <a:pt x="176" y="74"/>
                </a:lnTo>
                <a:lnTo>
                  <a:pt x="331" y="441"/>
                </a:lnTo>
                <a:lnTo>
                  <a:pt x="455" y="426"/>
                </a:lnTo>
                <a:lnTo>
                  <a:pt x="543" y="147"/>
                </a:lnTo>
                <a:lnTo>
                  <a:pt x="654" y="140"/>
                </a:lnTo>
                <a:lnTo>
                  <a:pt x="734" y="360"/>
                </a:lnTo>
                <a:lnTo>
                  <a:pt x="830" y="375"/>
                </a:lnTo>
                <a:lnTo>
                  <a:pt x="969" y="0"/>
                </a:lnTo>
                <a:lnTo>
                  <a:pt x="1079" y="44"/>
                </a:lnTo>
                <a:lnTo>
                  <a:pt x="1270" y="375"/>
                </a:lnTo>
                <a:lnTo>
                  <a:pt x="1329" y="382"/>
                </a:lnTo>
                <a:lnTo>
                  <a:pt x="1388" y="96"/>
                </a:lnTo>
                <a:lnTo>
                  <a:pt x="1476" y="88"/>
                </a:lnTo>
                <a:lnTo>
                  <a:pt x="1666" y="595"/>
                </a:lnTo>
                <a:lnTo>
                  <a:pt x="1755" y="595"/>
                </a:lnTo>
                <a:lnTo>
                  <a:pt x="1813" y="441"/>
                </a:lnTo>
                <a:lnTo>
                  <a:pt x="1931" y="455"/>
                </a:lnTo>
                <a:lnTo>
                  <a:pt x="2019" y="610"/>
                </a:lnTo>
                <a:lnTo>
                  <a:pt x="2136" y="551"/>
                </a:lnTo>
                <a:lnTo>
                  <a:pt x="2261" y="316"/>
                </a:lnTo>
                <a:lnTo>
                  <a:pt x="2378" y="419"/>
                </a:lnTo>
                <a:lnTo>
                  <a:pt x="2459" y="558"/>
                </a:lnTo>
                <a:lnTo>
                  <a:pt x="2577" y="573"/>
                </a:lnTo>
                <a:lnTo>
                  <a:pt x="2635" y="455"/>
                </a:lnTo>
                <a:lnTo>
                  <a:pt x="2723" y="499"/>
                </a:lnTo>
                <a:lnTo>
                  <a:pt x="2767" y="566"/>
                </a:lnTo>
                <a:lnTo>
                  <a:pt x="2863" y="331"/>
                </a:lnTo>
                <a:lnTo>
                  <a:pt x="2936" y="199"/>
                </a:lnTo>
              </a:path>
            </a:pathLst>
          </a:custGeom>
          <a:noFill/>
          <a:ln w="31680">
            <a:solidFill>
              <a:srgbClr val="b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433440" y="219240"/>
            <a:ext cx="8361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оћна полиурија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417600" y="6574320"/>
            <a:ext cx="7607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729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Izvor</a:t>
            </a:r>
            <a:r>
              <a:rPr b="0" lang="en-U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:</a:t>
            </a:r>
            <a:r>
              <a:rPr b="0" lang="en-U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	</a:t>
            </a:r>
            <a:r>
              <a:rPr b="0" lang="en-US" sz="900" spc="-1" strike="noStrike">
                <a:solidFill>
                  <a:srgbClr val="44546a"/>
                </a:solidFill>
                <a:latin typeface="Arial"/>
                <a:ea typeface="ヒラギノ角ゴ Pro W3"/>
              </a:rPr>
              <a:t>Rittig S, et al. Abnormal diurnal rhythm of plasma vasopressin and urinary output in patients with enuresis. Am J Physiol 1989; 256: F664-7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7683480" y="236520"/>
            <a:ext cx="1224000" cy="10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6661080" y="6570720"/>
            <a:ext cx="2133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9"/>
          <p:cNvGrpSpPr/>
          <p:nvPr/>
        </p:nvGrpSpPr>
        <p:grpSpPr>
          <a:xfrm>
            <a:off x="1360440" y="1733400"/>
            <a:ext cx="6418080" cy="4051080"/>
            <a:chOff x="1360440" y="1733400"/>
            <a:chExt cx="6418080" cy="4051080"/>
          </a:xfrm>
        </p:grpSpPr>
        <p:sp>
          <p:nvSpPr>
            <p:cNvPr id="111" name="Rectangle 2"/>
            <p:cNvSpPr/>
            <p:nvPr/>
          </p:nvSpPr>
          <p:spPr>
            <a:xfrm>
              <a:off x="1360440" y="1733400"/>
              <a:ext cx="6418080" cy="403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Line 3"/>
            <p:cNvSpPr/>
            <p:nvPr/>
          </p:nvSpPr>
          <p:spPr>
            <a:xfrm>
              <a:off x="4569480" y="1733400"/>
              <a:ext cx="0" cy="405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1360440" y="2700000"/>
              <a:ext cx="6418080" cy="2099520"/>
            </a:xfrm>
            <a:custGeom>
              <a:avLst/>
              <a:gdLst>
                <a:gd name="textAreaLeft" fmla="*/ 0 w 6418080"/>
                <a:gd name="textAreaRight" fmla="*/ 6418440 w 6418080"/>
                <a:gd name="textAreaTop" fmla="*/ 0 h 2099520"/>
                <a:gd name="textAreaBottom" fmla="*/ 2099880 h 2099520"/>
              </a:gdLst>
              <a:ahLst/>
              <a:rect l="textAreaLeft" t="textAreaTop" r="textAreaRight" b="textAreaBottom"/>
              <a:pathLst>
                <a:path w="3200" h="1047">
                  <a:moveTo>
                    <a:pt x="0" y="196"/>
                  </a:moveTo>
                  <a:cubicBezTo>
                    <a:pt x="8" y="166"/>
                    <a:pt x="21" y="138"/>
                    <a:pt x="64" y="112"/>
                  </a:cubicBezTo>
                  <a:cubicBezTo>
                    <a:pt x="107" y="86"/>
                    <a:pt x="157" y="59"/>
                    <a:pt x="258" y="41"/>
                  </a:cubicBezTo>
                  <a:cubicBezTo>
                    <a:pt x="359" y="23"/>
                    <a:pt x="524" y="4"/>
                    <a:pt x="671" y="2"/>
                  </a:cubicBezTo>
                  <a:cubicBezTo>
                    <a:pt x="818" y="0"/>
                    <a:pt x="1012" y="8"/>
                    <a:pt x="1142" y="28"/>
                  </a:cubicBezTo>
                  <a:cubicBezTo>
                    <a:pt x="1272" y="48"/>
                    <a:pt x="1378" y="73"/>
                    <a:pt x="1451" y="125"/>
                  </a:cubicBezTo>
                  <a:cubicBezTo>
                    <a:pt x="1524" y="177"/>
                    <a:pt x="1548" y="254"/>
                    <a:pt x="1580" y="338"/>
                  </a:cubicBezTo>
                  <a:cubicBezTo>
                    <a:pt x="1612" y="422"/>
                    <a:pt x="1607" y="538"/>
                    <a:pt x="1645" y="628"/>
                  </a:cubicBezTo>
                  <a:cubicBezTo>
                    <a:pt x="1683" y="718"/>
                    <a:pt x="1702" y="814"/>
                    <a:pt x="1806" y="880"/>
                  </a:cubicBezTo>
                  <a:cubicBezTo>
                    <a:pt x="1910" y="946"/>
                    <a:pt x="2128" y="997"/>
                    <a:pt x="2271" y="1022"/>
                  </a:cubicBezTo>
                  <a:cubicBezTo>
                    <a:pt x="2414" y="1047"/>
                    <a:pt x="2544" y="1043"/>
                    <a:pt x="2664" y="1028"/>
                  </a:cubicBezTo>
                  <a:cubicBezTo>
                    <a:pt x="2784" y="1013"/>
                    <a:pt x="2904" y="969"/>
                    <a:pt x="2993" y="931"/>
                  </a:cubicBezTo>
                  <a:cubicBezTo>
                    <a:pt x="3082" y="893"/>
                    <a:pt x="3137" y="850"/>
                    <a:pt x="3200" y="802"/>
                  </a:cubicBezTo>
                </a:path>
              </a:pathLst>
            </a:custGeom>
            <a:noFill/>
            <a:ln w="50760">
              <a:solidFill>
                <a:srgbClr val="ffb3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2511720" y="1811520"/>
              <a:ext cx="737640" cy="789840"/>
            </a:xfrm>
            <a:prstGeom prst="sun">
              <a:avLst>
                <a:gd name="adj" fmla="val 25000"/>
              </a:avLst>
            </a:prstGeom>
            <a:solidFill>
              <a:srgbClr val="fef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6"/>
            <p:cNvSpPr/>
            <p:nvPr/>
          </p:nvSpPr>
          <p:spPr>
            <a:xfrm>
              <a:off x="5889240" y="1929600"/>
              <a:ext cx="414720" cy="80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91a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481360" y="482184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400" spc="-1" strike="noStrike">
                  <a:solidFill>
                    <a:srgbClr val="000000"/>
                  </a:solidFill>
                  <a:latin typeface="Arial"/>
                </a:rPr>
                <a:t>Сува ноћ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Rectangle 12"/>
          <p:cNvSpPr/>
          <p:nvPr/>
        </p:nvSpPr>
        <p:spPr>
          <a:xfrm>
            <a:off x="7856640" y="285840"/>
            <a:ext cx="1001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2929680" y="529200"/>
            <a:ext cx="268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ДУКЦИЈА У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ЕЦА БЕЗ ЕНУРЕ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2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6661080" y="6570720"/>
            <a:ext cx="21337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1365120" y="1733400"/>
            <a:ext cx="6416280" cy="4051080"/>
            <a:chOff x="1365120" y="1733400"/>
            <a:chExt cx="6416280" cy="4051080"/>
          </a:xfrm>
        </p:grpSpPr>
        <p:sp>
          <p:nvSpPr>
            <p:cNvPr id="122" name="Rectangle 2"/>
            <p:cNvSpPr/>
            <p:nvPr/>
          </p:nvSpPr>
          <p:spPr>
            <a:xfrm>
              <a:off x="1365120" y="1733400"/>
              <a:ext cx="6416280" cy="403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3"/>
            <p:cNvSpPr/>
            <p:nvPr/>
          </p:nvSpPr>
          <p:spPr>
            <a:xfrm>
              <a:off x="4573080" y="1733400"/>
              <a:ext cx="0" cy="405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1365120" y="2914200"/>
              <a:ext cx="6402240" cy="2015640"/>
            </a:xfrm>
            <a:custGeom>
              <a:avLst/>
              <a:gdLst>
                <a:gd name="textAreaLeft" fmla="*/ 0 w 6402240"/>
                <a:gd name="textAreaRight" fmla="*/ 6402600 w 6402240"/>
                <a:gd name="textAreaTop" fmla="*/ 0 h 2015640"/>
                <a:gd name="textAreaBottom" fmla="*/ 2016000 h 2015640"/>
              </a:gdLst>
              <a:ahLst/>
              <a:rect l="textAreaLeft" t="textAreaTop" r="textAreaRight" b="textAreaBottom"/>
              <a:pathLst>
                <a:path w="3193" h="1005">
                  <a:moveTo>
                    <a:pt x="0" y="809"/>
                  </a:moveTo>
                  <a:cubicBezTo>
                    <a:pt x="8" y="839"/>
                    <a:pt x="21" y="867"/>
                    <a:pt x="64" y="893"/>
                  </a:cubicBezTo>
                  <a:cubicBezTo>
                    <a:pt x="107" y="919"/>
                    <a:pt x="157" y="946"/>
                    <a:pt x="258" y="964"/>
                  </a:cubicBezTo>
                  <a:cubicBezTo>
                    <a:pt x="359" y="982"/>
                    <a:pt x="524" y="1001"/>
                    <a:pt x="671" y="1003"/>
                  </a:cubicBezTo>
                  <a:cubicBezTo>
                    <a:pt x="818" y="1005"/>
                    <a:pt x="1012" y="997"/>
                    <a:pt x="1142" y="977"/>
                  </a:cubicBezTo>
                  <a:cubicBezTo>
                    <a:pt x="1272" y="957"/>
                    <a:pt x="1378" y="932"/>
                    <a:pt x="1451" y="880"/>
                  </a:cubicBezTo>
                  <a:cubicBezTo>
                    <a:pt x="1524" y="828"/>
                    <a:pt x="1548" y="751"/>
                    <a:pt x="1580" y="667"/>
                  </a:cubicBezTo>
                  <a:cubicBezTo>
                    <a:pt x="1612" y="583"/>
                    <a:pt x="1607" y="467"/>
                    <a:pt x="1645" y="377"/>
                  </a:cubicBezTo>
                  <a:cubicBezTo>
                    <a:pt x="1683" y="287"/>
                    <a:pt x="1738" y="186"/>
                    <a:pt x="1806" y="125"/>
                  </a:cubicBezTo>
                  <a:cubicBezTo>
                    <a:pt x="1874" y="64"/>
                    <a:pt x="1921" y="0"/>
                    <a:pt x="2051" y="11"/>
                  </a:cubicBezTo>
                  <a:cubicBezTo>
                    <a:pt x="2181" y="22"/>
                    <a:pt x="2433" y="116"/>
                    <a:pt x="2587" y="192"/>
                  </a:cubicBezTo>
                  <a:cubicBezTo>
                    <a:pt x="2741" y="268"/>
                    <a:pt x="2873" y="397"/>
                    <a:pt x="2974" y="469"/>
                  </a:cubicBezTo>
                  <a:cubicBezTo>
                    <a:pt x="3075" y="541"/>
                    <a:pt x="3148" y="592"/>
                    <a:pt x="3193" y="624"/>
                  </a:cubicBezTo>
                </a:path>
              </a:pathLst>
            </a:custGeom>
            <a:noFill/>
            <a:ln w="50760">
              <a:solidFill>
                <a:srgbClr val="ffb30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AutoShape 5"/>
            <p:cNvSpPr/>
            <p:nvPr/>
          </p:nvSpPr>
          <p:spPr>
            <a:xfrm>
              <a:off x="2516040" y="1811520"/>
              <a:ext cx="737280" cy="789840"/>
            </a:xfrm>
            <a:prstGeom prst="sun">
              <a:avLst>
                <a:gd name="adj" fmla="val 25000"/>
              </a:avLst>
            </a:prstGeom>
            <a:solidFill>
              <a:srgbClr val="fef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AutoShape 6"/>
            <p:cNvSpPr/>
            <p:nvPr/>
          </p:nvSpPr>
          <p:spPr>
            <a:xfrm>
              <a:off x="5892840" y="1929600"/>
              <a:ext cx="414360" cy="80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91a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7"/>
            <p:cNvSpPr/>
            <p:nvPr/>
          </p:nvSpPr>
          <p:spPr>
            <a:xfrm>
              <a:off x="5482080" y="4575240"/>
              <a:ext cx="14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400" spc="-1" strike="noStrike">
                  <a:solidFill>
                    <a:srgbClr val="000000"/>
                  </a:solidFill>
                  <a:latin typeface="Arial"/>
                </a:rPr>
                <a:t>Енурез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Rectangle 12"/>
          <p:cNvSpPr/>
          <p:nvPr/>
        </p:nvSpPr>
        <p:spPr>
          <a:xfrm>
            <a:off x="7861320" y="295200"/>
            <a:ext cx="95868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634000" y="928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2654280" y="506520"/>
            <a:ext cx="34275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3278880" y="645120"/>
            <a:ext cx="2683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ДУКЦИЈА У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Д ДЕЦЕ СА ЕНУРЕЗ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Енуреза је појава невољне микције, најчешће у току ноћи, ређе дањ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1752480"/>
            <a:ext cx="91440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7d31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АНАМН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ФИЗИКАЛНИ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ЕИНВАЗИНА ИСПИТИ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971800" y="3886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 flipH="1">
            <a:off x="2285280" y="3581280"/>
            <a:ext cx="152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013360" y="414360"/>
            <a:ext cx="32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114800" y="4572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166840" y="338040"/>
            <a:ext cx="451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Tahoma"/>
              </a:rPr>
              <a:t>ИСПИТИВАЊ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413080" y="3570120"/>
            <a:ext cx="41907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Преглед у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Осмолалност ур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Дневник мокр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Ултразву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Терапија некада..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руће вино и уљ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згорети вољку од петла и дати да се попије са млаком водо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дгристи главу жаб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Цветови хризентем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бријани зечији тестиси у вин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Опијум, камфор, беладона, стрихнин, хлорал хидрат..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even Books of Paulus Ægineta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, 18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3280" y="1825200"/>
            <a:ext cx="3872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Подаци о раним облицима лечења датирају из 1500. пХ, што говори да енуреза представља стари проблем у медицини. Многи стари видови лечења су непријатни, попут одгризања жабље главе и не могу се поредити са модерним терапијским интервенција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 Light"/>
              </a:rPr>
              <a:t>Терапија дана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Фармакотерапиј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ДЕЗМОПРЕСИ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Кондиционирана терап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300" spc="-1" strike="noStrike">
                <a:solidFill>
                  <a:srgbClr val="000000"/>
                </a:solidFill>
                <a:latin typeface="Calibri"/>
              </a:rPr>
              <a:t>ЕНУРЕЗА АЛАРМ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1258920" y="6356520"/>
            <a:ext cx="63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 u="sng">
                <a:solidFill>
                  <a:srgbClr val="000000"/>
                </a:solidFill>
                <a:uFillTx/>
                <a:latin typeface="Arial"/>
              </a:rPr>
              <a:t>УКОЛИКО ВАШЕ ДЕТЕ ПИШКИ НОЋУ У КРЕВЕТ, ОБРАТИТЕ СЕ ВАШЕМ ПЕДИЈАТРУ</a:t>
            </a:r>
            <a:r>
              <a:rPr b="0" lang="sr-Latn-RS" sz="900" spc="-1" strike="noStrike" u="sng">
                <a:solidFill>
                  <a:srgbClr val="000000"/>
                </a:solidFill>
                <a:uFillTx/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9865-BB0B-4B89-BF9B-996B63C8C08D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286000" y="-5135400"/>
            <a:ext cx="4359240" cy="110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ИТНИК ЗА РОДИТЕЉЕ ДЕЦЕ И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ШКОЛСКИХ УСТА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ли се дете умокрава ноћу у току спавањ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у току дневног спавањ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ли дете влажи веш у току дан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 ли је постојао период дужи од 6 месеци када је дете било суво у току ноћи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sr-R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Сајт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www.nocnoumokravanje.co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ецијализовани сајт намењен родитељима деце са проблемом ноћног умокра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држај сајта</a:t>
            </a:r>
            <a:r>
              <a:rPr b="0" lang="sr-Latn-RS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сновне информације о ноћном умокрава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тови и заблу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а пи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етске препору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еглед штам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так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52320" y="836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одитељи би требало да имају у виду да деца веома ретко или скоро никада не пишке ноћу у кревет намерно. Уместо да дете критикују или му прете батинама, боље је да га охрабре, пруже позитивну подршку и веру да ће ускоро престати то да рад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опходно је да се родитељи деце која мокре придржавају неких упутст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2320" y="9806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ратити пажњу на конзумирање течности пре спавања, охрабрити дете да пишки пре спавања, будити дете током ноћи да пишки, похвалити дете када се ујутру пробуди су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бегавати било какву врсту кажњавања, консултовати се са лекаром и уколико има потребе пружити детету адекватну терап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4000" y="13093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ка деца нису довољно мотивисана да се сама лече. Она наводе да им не смета што је постеља мокра. Да би се мотивисала на сарадњу и самопомоћ, родитељима се саветује да их натерају да сваког јутра сама промене своју постељину. То није казна и не треба је у виду наредбе и прекор наметати дете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52320" y="1052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еба га замолити да само уради овај посао, а када му то досади, може се десити да несвесно престане или мање учестало мокри у кревет. Ослобађање од овог задатка деца доживљавају као награду која повећава мотивацију з лече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28560" y="1309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лаговремено јављање лекару и психологу може допринети решавању овог проблема у великом броју случај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Light"/>
              </a:rPr>
              <a:t>НОЋНО УМОКРАВАЊЕ КОД ДЕЦ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ема периоду дана у коме се појављује разликује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невно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мокравање које се поставља као дијагноза код оне деце која су навршила три године, а током будног стања се умокравају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nuresis nocturna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ћна енурез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се сматра поремећајем код десе која су навршила барем пет го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280" y="1825200"/>
            <a:ext cx="77598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ћно умокравање се дефинише као невољно пражњење мокраће током сна, најмање три пута недељно код деце старије од 5 година или одраслих у одсуству конгениталних или стечених поремећаја централног нервног система (ЦНС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во је мучан симптом који лоше утиче на квалитет жив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Light"/>
              </a:rPr>
              <a:t>НОЋНО УМОКРАВАЊЕ КОД ДЕЦ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ћно мокрење представља поремећај који се карактерише немогућношћу контролисања започетог процеса мокрења у току с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ако долази до поремећаја мокрења сви органи генито-уринарног тракта су здрави и нормално функциониш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 Light"/>
              </a:rPr>
              <a:t>НОЋНО УМОКРАВАЊЕ КОД ДЕЦ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односу на податак о раније успостављеној контроли сфинктера, делимо је 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имарну енурез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која означава да дете никада није успоставило контролу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екундарну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где је постојао известан период у коме се дете континуирано није умокравало (дужи од 6 месе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3440" y="218880"/>
            <a:ext cx="661968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300" spc="-1" strike="noStrike">
                <a:solidFill>
                  <a:srgbClr val="000000"/>
                </a:solidFill>
                <a:latin typeface="Calibri Light"/>
              </a:rPr>
              <a:t>МОНОСИМПТОМАТСКУ ЕНУРЕЗУ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33440" y="1278000"/>
            <a:ext cx="836136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АРАКТЕРИШЕ НОРМАЛАН АКТ МОКР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7589880" y="176040"/>
            <a:ext cx="1378080" cy="12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064160" y="2652840"/>
            <a:ext cx="41900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 ДЕНВНЕ ИНКОНТИН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 УРГ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БЕЗ ФРЕКВЕНТНИХ МИ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ОРМАЛАН ЕХО НА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ТПУНО ПРАЖЊЕЊЕ БЕШ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704440" y="6492960"/>
            <a:ext cx="43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2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 Light"/>
              </a:rPr>
              <a:t>МОНОСИМПТОМАТСКА НОЋНА ЕНУРЕЗА - УЧЕСТАЛОСТ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20-25%   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10%       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7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hr-HR" sz="4000" spc="-1" strike="noStrike">
                <a:solidFill>
                  <a:srgbClr val="000000"/>
                </a:solidFill>
                <a:latin typeface="Calibri"/>
              </a:rPr>
              <a:t>7%          10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RS" sz="4300" spc="-1" strike="noStrike">
                <a:solidFill>
                  <a:srgbClr val="000000"/>
                </a:solidFill>
                <a:latin typeface="Tahoma"/>
              </a:rPr>
              <a:t>Узроци ноћног умокравања</a:t>
            </a:r>
            <a:endParaRPr b="0" lang="en-US" sz="4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772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ПОРОДИЧНИ И ГЕНСКИ ФАКТОР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ПСИХОЛОШКИ ФАКТОР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ЧВРСТ СА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2d050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СМАЊЕНО ЛУЧЕЊЕ ПРИРОДНЕ СУПСТАНЦЕ - ВАЗОПРЕСИ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9:49:38Z</dcterms:created>
  <dc:creator>Aleksandar Cukanovic</dc:creator>
  <dc:description/>
  <dc:language>en-US</dc:language>
  <cp:lastModifiedBy>Sveta</cp:lastModifiedBy>
  <cp:lastPrinted>2012-09-10T14:19:39Z</cp:lastPrinted>
  <dcterms:modified xsi:type="dcterms:W3CDTF">2016-05-04T11:21:49Z</dcterms:modified>
  <cp:revision>40</cp:revision>
  <dc:subject/>
  <dc:title>PowerPoint Presentation</dc:title>
</cp:coreProperties>
</file>